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86B35-5F35-4872-ADD1-7095B1AB2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69873-BF6A-453D-B8EA-F053DB143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8335C-1D47-474A-8075-2C1E7C750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A8DB1-B989-4BBF-A496-9264D1D5B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7BE8B-089D-40CB-AA6F-26F210085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C845C-AD6A-464B-B74D-EB6AF2674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77814-522F-43A2-B07C-273974BE0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73066-5524-4B8B-9088-FC1B87BFA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2304E-95F7-455B-946A-71D648CA6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1D3BD-6BE1-4F79-955B-159123C65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C8C42-4535-456C-93A7-2271C6224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2C678-528E-4A91-A63B-687339F0F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328D3-BAD9-4990-821B-1BF77075E8C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eagle.to/" TargetMode="External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2590560"/>
            <a:ext cx="7086600" cy="88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agle: Tcl Integration with the CL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14040" y="3581280"/>
            <a:ext cx="7086600" cy="117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6th Annual Tcl Confere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oe Mistachk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cript Evalu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 interp [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cl creat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]; # create a Tcl interp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cl eval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$interp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This is a Tcl script.  The "eagle" comman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here is actually a Tcl command that h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been implemented in managed code (in th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case, it simply maps to the "eval" comman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in Eagle).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9900"/>
                </a:solidFill>
                <a:latin typeface="Courier New"/>
              </a:rPr>
              <a:t>eagl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debug break; # type "#go" to continu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cl delet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$interp; # delete the Tcl interp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sing Tk in the Main Threa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 interp [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cl creat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]; # create a Tcl interp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This will load Tk into the new Tcl interp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cl eval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$interp {package require Tk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Service the Tcl event loop until we are cancele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fter 10000 [list interp cancel]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atch {while {1} {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cl updat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}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cl delet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$interp; # delete the Tcl interp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reating a Tcl Worker Threa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Initialize by-ref argument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 result ""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 thread nul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Get the active Eagle interp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 interp [object invoke -alias Interpreter GetActive]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Create Tcl worker threa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$interp -alias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CreateTclThread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100 true resul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Extract the thread name from the resul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 name [$result ToString]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Get the object for the thread we just create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$interp -alias -flags +NonPublic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GetTclThread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$name \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hread resul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sing a Tcl Worker Threa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# Initialize by-ref argument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t result "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# Tell the worker thread to create a Tcl interp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$thread 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QueueEvent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Courier New"/>
              </a:rPr>
              <a:t>Create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Immediate null true resu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# Queue a script to evaluate to the worker threa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$thread 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QueueEvent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Courier New"/>
              </a:rPr>
              <a:t>Evaluate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Immediate \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{package require Tk} true resu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# Delete the worker thread (this will also cause th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# Tcl interp to be deleted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$interp 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DeleteTclThread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$name false resu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oes it run on Mono?</a:t>
            </a:r>
            <a:br>
              <a:rPr sz="4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by popular demand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hort Answer: Y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ng Answer: Yes, it runs on version 2.0 or higher.  However, version 2.4 or higher is recommended due to serious bugs in earlier version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no does not perfectly emulate the .NET Framework and still has bugs that affect Eagle (e.g. #473899, #478489, #479061, #490932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monstr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ere is it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25905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 u="sng">
                <a:solidFill>
                  <a:srgbClr val="92cddc"/>
                </a:solidFill>
                <a:uFillTx/>
                <a:latin typeface="Times New Roman"/>
                <a:hlinkClick r:id="rId2"/>
              </a:rPr>
              <a:t>http://eagle.to/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Questions and Answer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Eagl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909880" y="1608120"/>
            <a:ext cx="3322800" cy="479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Eagl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gle is an open-source implementation of Tcl written in C# for the CL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ed to be highly extensible and easily embeddable into CLR-based applicatio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pports approximately 90% of the Tcl 8.4 core command se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ait a minute…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y integrate with Tcl if Eagle is already an implementation of the Tcl languag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y integrate with Tcl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existing Tcl integration solutions for the CLR were less than idea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possibility of using the expressive power of a Tcl-compatible language to control the integration of the Tcl language with the CLR was very compell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ows unit-testing of embedding scenarios that need to dynamically load and unload the Tcl librar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cl Integration Featur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orts any build of Tcl/Tk, version 8.4 or higher, including "basekits" and "stardlls"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orts 32-bit and 64-bit operating system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orts worker threads with their own event loop processing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orts exit handler creation and deletion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orts script cancellation via TIP 285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orts a unified stack trace for errors via the Eagle errorInfo variabl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orts error line number management via TIP 336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revents a deleted interpreter from being use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revents an interpreter with activations from being deleted via TIP 335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Loading Tcl Automaticall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if {![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tcl ready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]} then {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# This command loads the "best" Tc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# library available.  The exa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# algorithm used is documented 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# the pap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tcl lo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Loading Tcl with Version Requirement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if {![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tcl ready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]} then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 This command loads the "best" Tc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 library available that meets th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 specified version requirements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tcl load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–minimumversion 8.4 \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-maximumversion 8.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Loading a Specific Tcl Librar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if {![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tcl ready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]} then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 This command will skip the Tcl libra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 detection logic and simply load th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 specified Tcl library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tcl load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{C:\full\path\to\tcl.dll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1T20:43:22Z</dcterms:created>
  <dc:creator>Joe Mistachkin</dc:creator>
  <dc:description/>
  <dc:language>en-US</dc:language>
  <cp:lastModifiedBy>Joe Mistachkin</cp:lastModifiedBy>
  <dcterms:modified xsi:type="dcterms:W3CDTF">2009-10-01T15:50:24Z</dcterms:modified>
  <cp:revision>369</cp:revision>
  <dc:subject>Eagle</dc:subject>
  <dc:title>Eagle: Tcl Integration with the CLR</dc:title>
</cp:coreProperties>
</file>