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45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85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903BEB-865F-43F7-A481-4FE4009F625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1896-03B6-4EFE-97A9-7EFAC5AF6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F597-479F-4889-9D48-4D824105D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6F98-A0F1-4E34-A454-92ABCC500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0453-1C2D-40AC-9E03-D91C3B865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00BD-86E0-4C91-AF81-22681F377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754A-32F8-485B-82BA-091A6D87B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0557-CBD9-448C-B7AA-0831BD2EA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4365-A33A-4D4E-B32A-62F082059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768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BCDE-EAEE-47AD-9DD6-F9949EA77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F4F7-3C9C-41EF-8E55-2F8A8036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FD05-8684-4D28-9AC0-82A59B573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609C-E6A9-412B-9599-498930CB7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90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DC209F-3293-45A7-B28F-5B399767635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—SQLite in Tcl in SQL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A Tcl/Tk script for displaying and maintaining an SQLite database, stored in an SQLit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Main wind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87572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Table Disp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87240" y="1828800"/>
            <a:ext cx="86202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tand-alone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vert between v2 and v3 file form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 table from or export table to delimited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rst row can be column names or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orted data can have variable number of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 db element from or export db element to text file (like ONECOLUMN meth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ecute a single line of SQL or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Run SQ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855880" y="1828800"/>
            <a:ext cx="434664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Decision to Put showtable in Database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pired by the “Database as Program” section of DRH's “SQLite and Tcl” paper, but not an implementation of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nted to put a functional block (the chief proc for a function and its supporting proc's) in one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't put header and body in separate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side function can't call support proc unless its functional block is known to have been lo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269640"/>
            <a:ext cx="907236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GEB: Impacts of Putting showtable in Database 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29920" y="1600200"/>
            <a:ext cx="9072360" cy="55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TTACH capability became mand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only one file can be displayed/edited, that one slot can't be taken up by the displaying program it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o data arrays as 2D (attach name and original inde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d to implement ed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arching routine needed to look at all Tcl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d matching brackets, braces, and parenth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lace and Replace All, with and without confirmation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eck for infinite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editruntc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57400" y="1233360"/>
            <a:ext cx="6580080" cy="60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600200" y="1442880"/>
            <a:ext cx="7467480" cy="564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Bootstr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28480" y="1545840"/>
            <a:ext cx="9072720" cy="576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ackage require Tk; package require Tktable; console sh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Create namespace for all "globals" and pro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amespace eval ::GEB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ad /sqlite/tclsqlite3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ad /sqlite/tclsqlite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t dbfile showtable.sq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qlite3 sq $db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t ::GEB::attachfilename(main) $dbf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roc evalsqlitetcl t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plevel #0 [join [sq eval "select tcl from $table limit 1"]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valsqlitetcl main_att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ditrunt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attachit s2008 /irisdata/2008symp/2008symp.sq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main_attach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53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d in core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ose needed before “unknown” is set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t up window and arrays for main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ble names, columns in each table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end “unknown” proc handler to look in database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a table with the name of the needed proc exists, load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the loading defines the proc, execut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therwise, exec original “unknown” hand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—Presentation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the project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its goals have b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rly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olution: tkTable, storing script in SQLite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otup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st and 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tential users and licen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ve demon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ummary of Development Exper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azingly few gotchas considering my level of knowledge of Tcl/Tk/SQLite when I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often took longer to decide what I wanted to do and how I wanted it to work than to implement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very useful tool. For me. It fits my way of thinking. But for others it may be too idiosyncrati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Future P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 wildcards in sear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 editing a development version while executing stable version (row vs colum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witch to 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lement full text search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cilitate displays of 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otential U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54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extreme: Tcl developer who does not care about SQL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eivable, but many more facilities available else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extreme: SQLite user who does not care about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lightly more reasonable, but again, other tools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ppy medium: User with some data and some scripts, who wants to keep and use them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Licen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28480" y="1463760"/>
            <a:ext cx="907272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nded to be released to Public Do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It would feel wrong to be more restrictive than SQLite itsel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QLite blessing or equival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do good and not e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find forgiveness for yourself and forgive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share freely, never taking more than you g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rther development encouraged, especially if kept pub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available--inquire wit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rry Snyder  mesmerizerfan@gmail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(evolving) Desig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uce dependence on proprietary s/w and data formats (MS Access, dBase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venient scripting language, run on Linux and 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velop single package for all my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iew table/column na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iew and edit table cont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ore/edit/execute Tcl/SQL code in the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ore the program itself in the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d functions as the need arises (ongo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Design Driv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velop increment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ep data sa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ow generated SQL before COMMI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allow many combinations of Alter Table functions in a single p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cept slower scree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sy t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nimize bootstr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to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057400" y="1663560"/>
            <a:ext cx="6718320" cy="542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bottom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697040" y="1685880"/>
            <a:ext cx="6743520" cy="463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Alter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498680" y="1600200"/>
            <a:ext cx="718812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edittab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86000" y="1384200"/>
            <a:ext cx="5537160" cy="570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Change to Tk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iven by desire to improve l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table is editable, in its own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lved potential problem of displaying large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cell entry value from an individual SEL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fe but sl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ither specific potential problem nor iron-clad bulletproofing has been f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