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9954-6973-42F7-9C66-F58504F89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E3A9-B7AF-4509-8FB7-244894229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9482-1CFB-4F9D-8687-73C7CBDA0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6E9C-873A-4DFF-A9D9-9FEDB2950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9532AE-6D95-4E50-8C40-2B6BC30CFFF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D14911-4A28-4A35-B655-9885DD8D63B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B51212-A744-4A2E-88AC-DC48AA0024C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3D8EB7-F551-487F-9C3F-6011C38212D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814E3F-9A63-46E0-97BF-4D55C0D1E98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C80612-5327-4CB0-8696-23652481865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2487FC-579B-47D4-896F-20D4E45955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E2C1-892D-42F9-8D64-E6D59A96E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3D69AF-BA41-475B-9DF3-33EEE2E9168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56893F-9C30-433E-9881-198D9094C10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67686B-2E0D-462C-98F9-A9ACB65A9F0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622CE4-01F2-477F-9F31-002D5686D22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922A98-7C59-4CDF-9442-AD129DFAAD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9EF8-1C75-4D75-A2CA-50DBE0D27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162F-A6A9-4F8F-9FD3-6F6D288DF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0230-9315-4775-9DAE-D91CE3B6B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B51D-1637-40F8-BC6A-CECC57D3E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1E5A-DEC5-4FE8-9FC2-E52235FC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CE5A-454E-478B-AB60-1BF1F172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CD79-22EF-4B42-8C07-630F0E24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88D7C-D32F-48EE-8E83-89FBF5C77C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43AD7-4974-4DAA-8FED-77FED0375D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 8.4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lset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dex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search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nchronous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teps to 8.4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0:54Z</dcterms:modified>
  <cp:revision>406</cp:revision>
  <dc:subject/>
  <dc:title>8.4 Tcl Overview</dc:title>
</cp:coreProperties>
</file>