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FE99-4858-46F8-A705-9404DEF9F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46EE-EBB4-4DB3-B9DD-DCE2D2FA7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9D89-DCDE-429C-A81E-A6FAEE0F6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7504-12DB-4FD1-981D-3656D31F6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3C99-9204-46F6-A9C0-D508F204B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18AB-E5EE-476D-B891-CD4FE3197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B83C-9124-44A4-B2F6-2E62992D9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D48F-437F-42DA-91CF-EABC2B7CD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8588-84E0-40A5-A373-07D3CE9DC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15EC-CF4E-4526-A548-396BA2FD9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FFB0-CC41-4BF1-8AEF-2C780337F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14F6-A098-4044-BE97-006103D72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5A93B-A0F3-4D83-905E-B57E799671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apping Fortran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jen Mar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: final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ding the unnecessary arg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dbdsdc { uplo compq d e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[list $dnew $u $vt $q $iq $info]  ;# Leaving out "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types of da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ars (mostly floating-point and integ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-dimensional arrays (vecto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-dimensional arrays (matric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: mapped onto Tcl lists and n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ting the wrapper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inguish the various roles of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ut data (scalar/arr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 arguments (scalar/arr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s of array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 n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ndling the ro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ilerplate code (integer array v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laration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ng *v; int size__v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isat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 WrapCopyIntListToArray( interp, objv[1], &amp;v, &amp;size__v ) != TCL_OK 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cl_SetResult( interp, “Argument 1 must be a list of integers”, NULL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CL_ERR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n-up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kfree((char *)v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 of argu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tran routine (arrays x and w are returned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subroutine lagzo( n, x, w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integer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double precision x(n), w(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wrapp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rapfort::fproc ::Specfunc::laguerreZeros lagzo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n  in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-array  x  {allocate n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-array  w  {allocate n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de {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gzo( &amp;n, x, w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…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dditional code: return arrays x and w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ical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e of arguments can not be deduced automat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knowledge of C and Fortran and interfacing the two i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ing more than one result (as a list) requires extra code – not handled automatically y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- wr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ndreds of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most interest: the “driver”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are well described – automation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handcrafting still required (to make the interface more Tcl-lik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PACK: user-defined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ing zeros for a vector-valued fun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hybrd1(fcn,n,x,fvec,tol,info,wa,lw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n,info,lw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t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x(n),fvec(n),wa(lw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xternal fc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unction is implemented via a user-defined subrouti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fcn(n,x,fvec,ifla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n,ifl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x(n),fvec(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lculate the functions at x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his vector in fve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PACK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rresponding Tcl proced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fcn {x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{ ... $x too far away ...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–code error “Unacceptable solution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$fvec ;# Vector-valued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PACK - wr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tion via Wrapfort: subroutine fcn(n,x,fvec,ifla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rapfort::fexternal fc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tra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      n     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-array x      {input n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-array fvec   {output n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      iflag  out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proc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x     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vec   res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nerro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*iflag = -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apping Fortran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numerical libr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ing the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ng the wrapper co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ther develop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about Ftcl and Wrapf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tcl is a project on SourceForge to combine Tcl and Fort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fort is part of that project, focusing on generating 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avoid all C programm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ftcl.sf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rther develop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: Tcl lists may not be the best representation in all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ping C libraries (akin to Critc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ing whole programs – develop a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ping such libraries makes this functionality available to Tcl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also makes Tcl’s flexibility available to engineers and scient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numerical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PACK: Linear algebra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func: Special mathematical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PACK: least-squares minim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ng multidimensional integrals (Strou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FTW: Fourier trans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ing the interf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typical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fit to Tc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AIRYA(X,AI,BI,AD,B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=====================================================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Purpose: Compute Airy functions and their deriva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Input:   x  --- Argument of Airy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Output:  AI --- Ai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BI --- Bi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AD --- Ai'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BD --- Bi'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Routine call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AJYIK for computing Jv(x), Yv(x), Iv(x)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Kv(x) with v=1/3 and 2/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=====================================================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LICIT DOUBLE PRECISION (A-H,O-Z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: fit to Tcl?  -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 {x ai_ bi_ ad_ bd_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ai_ 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bi_ b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ad_ 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bd_ b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s variable names – rather unus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: fit to Tcl?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2: Return a list of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 {x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[list $ai $bi $ad $bd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3: Separate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A {x} {      proc airyB {x}   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$ai            return $b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routines –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DBDSDC( UPLO, COMPQ, N, D, E, U, LDU, VT, LDVT, Q, IQ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                   WORK, IWORK, INFO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LAPACK routine (version 3.2)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LAPACK is a software package provided by Univ. of Tennessee,   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Univ. of California Berkeley, Univ. of Colorado Denver and NAG Ltd..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November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 Scalar Arguments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HARACTER          COMPQ, UP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     INFO, LDU, LDVT,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 Array Arguments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     IQ( * ), IWORK( *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  D( * ), E( * ), Q( * ), U( LDU, * 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                   VT( LDVT, * ), WORK( *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routines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argument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that are array dim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that provide work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output arg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ed in Tc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if we use lists to store th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1T05:07:48Z</dcterms:created>
  <dc:creator>Computer Services</dc:creator>
  <dc:description/>
  <dc:language>en-US</dc:language>
  <cp:lastModifiedBy>Computer Services</cp:lastModifiedBy>
  <dcterms:modified xsi:type="dcterms:W3CDTF">2010-06-04T04:54:37Z</dcterms:modified>
  <cp:revision>15</cp:revision>
  <dc:subject/>
  <dc:title>Wrapping Fortran libraries</dc:title>
</cp:coreProperties>
</file>