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64187"/>
        <c:axId val="63685841"/>
      </c:barChart>
      <c:catAx>
        <c:axId val="83164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5841"/>
        <c:crosses val="autoZero"/>
        <c:auto val="1"/>
        <c:lblAlgn val="ctr"/>
        <c:lblOffset val="100"/>
        <c:noMultiLvlLbl val="0"/>
      </c:catAx>
      <c:valAx>
        <c:axId val="63685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64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2FD-D31A-4A82-A376-C5371C6D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6FB-8603-41FB-B541-9FFAC77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C16-A6EB-4312-A329-27A53E7A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C63-47F9-4C85-A41C-98371CF0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C89-A5D4-45C6-ADD8-B845BF8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CF8-E0D7-40E5-A63F-BA8B61E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08D-1D4F-47FB-AA8B-A8560BB7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B86-1B14-4BAC-997A-F25D5ED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622-9295-44F4-A324-4AF345A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653-8DDB-4DB5-8B7F-8647857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3BE-B372-46AB-A6A8-3841CED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C2A-78B3-4CA8-AF65-12CCF44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EA297-A76F-482F-B9A1-D086FB4C77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