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34458"/>
        <c:axId val="87637325"/>
      </c:barChart>
      <c:catAx>
        <c:axId val="47334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37325"/>
        <c:crosses val="autoZero"/>
        <c:auto val="1"/>
        <c:lblAlgn val="ctr"/>
        <c:lblOffset val="100"/>
        <c:noMultiLvlLbl val="0"/>
      </c:catAx>
      <c:valAx>
        <c:axId val="87637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34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344-75B6-4FCF-899D-B6DB7716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89E-7DD4-4710-B701-CD1BE532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8D4-1174-452B-BACC-DD7316DC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9ED-AABB-42FF-B37E-1DDBC3CB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E89-0CBC-4C70-B26F-98F8B428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D2A-936C-4EB1-9135-126094A5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DFAB-4B09-492A-913B-8D1C1309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E00-23CF-4382-8052-F5B4B942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7F8-2ACD-4F5F-8D0D-90F55AF7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7A4-7997-442D-8ABA-B9CAEFC1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CEA-7684-4CCB-9204-3ED7DD61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3E4B-5B81-48F6-AB88-CA0A422F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6F997-E89F-46CD-B42B-917F96AAE0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