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21338"/>
        <c:axId val="43551567"/>
      </c:barChart>
      <c:catAx>
        <c:axId val="8372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1567"/>
        <c:crosses val="autoZero"/>
        <c:auto val="1"/>
        <c:lblAlgn val="ctr"/>
        <c:lblOffset val="100"/>
        <c:noMultiLvlLbl val="0"/>
      </c:catAx>
      <c:valAx>
        <c:axId val="43551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1C-06BF-415D-8AA5-792E5279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3CA-7FE3-4537-A698-C68BBDA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718-3526-4D27-99EF-4B317A2C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6A3-FF91-4A97-9360-E06EE039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080-0827-41B5-B1C7-E824C4A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C10-DC47-4815-8744-0D98006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264-B1F8-4C3B-9F28-889549F9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9E7-C197-425D-8713-7D141F74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757-03CD-4008-B489-03F0972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F58-1C7A-4A00-B5E1-5406C29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0C7-60FC-4899-9C29-8BEF5C8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19F-E39A-49BA-8602-3DC9D72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D663-BA2A-46DB-B113-E14510654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