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94585"/>
        <c:axId val="7186230"/>
      </c:barChart>
      <c:catAx>
        <c:axId val="72594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6230"/>
        <c:crosses val="autoZero"/>
        <c:auto val="1"/>
        <c:lblAlgn val="ctr"/>
        <c:lblOffset val="100"/>
        <c:noMultiLvlLbl val="0"/>
      </c:catAx>
      <c:valAx>
        <c:axId val="7186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94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34B-C7B1-4440-AE38-9B2606DD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24E-B875-4881-90C1-8B7C9D0A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BF6-5097-482A-B194-0116DF0E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5EC-A9B1-472D-B996-BA2796CF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4A5-88C0-45BF-A1C7-7A422489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5B5-5C2E-41C3-BB6D-E4F37D1E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302-877D-4677-8031-D0E86BC3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B96-1DA4-4FEA-AF8C-75831B80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4E2-B60C-4712-A2C5-2042C5E3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8F7-E237-485B-9230-242BB3D5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61D-DD0A-45C6-A73E-587E9627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EBF-758D-458B-8F17-995146A4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D7307-0417-4B80-AFB4-5829B7388C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