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03399"/>
        <c:axId val="32114716"/>
      </c:barChart>
      <c:catAx>
        <c:axId val="67003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14716"/>
        <c:crosses val="autoZero"/>
        <c:auto val="1"/>
        <c:lblAlgn val="ctr"/>
        <c:lblOffset val="100"/>
        <c:noMultiLvlLbl val="0"/>
      </c:catAx>
      <c:valAx>
        <c:axId val="32114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3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42D-A3D5-4DA9-8B11-27B29079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F42-1E63-4011-A397-42ED149F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B38-FBAD-46C2-9EBC-B008F587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EBE-75CC-48B2-BAB9-E5F9B926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4CD-86BE-4A84-9939-F16A8AA7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5AE-9A40-497B-90F5-C9E7EC90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99C-3715-476C-8926-BEAC19E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A49-E72A-4E1F-AC87-ED0D3FD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270-B3A9-40AA-830F-5BDB1C4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9AC-74DB-42B7-8DC2-B8AB78B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77C-44F0-4391-9CD1-34B6373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F2E-C9E6-47F2-966A-C8C51F3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F61AC-A8E5-40BD-A82A-9F821625C3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