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243480"/>
        <c:axId val="88172970"/>
      </c:barChart>
      <c:catAx>
        <c:axId val="812434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72970"/>
        <c:crosses val="autoZero"/>
        <c:auto val="1"/>
        <c:lblAlgn val="ctr"/>
        <c:lblOffset val="100"/>
        <c:noMultiLvlLbl val="0"/>
      </c:catAx>
      <c:valAx>
        <c:axId val="881729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434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BDF5-2049-4A6F-A84B-22034D8A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C533-110D-4794-8C06-C4C2223C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3B3A-D0FF-4C51-BBEF-7F959D76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64FF-971E-44A2-A2C9-065A4508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E728-CCFA-467D-AA24-7C8E69DB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4899-E898-4D5F-8F20-AFAC1967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6389-77DD-465E-B292-B5E02467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7EA0-6BCF-42B3-B866-7934C3C8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C6F5-A8B5-4BFD-B807-A0D0FEBF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DB09-E096-47E8-99BA-90C836A9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606B-E606-497F-9038-2CA7FCF8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E055-1323-45A7-B7D5-BDC31853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38C27-7F2E-48D8-9C78-D36036C1DB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