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24361"/>
        <c:axId val="28205410"/>
      </c:barChart>
      <c:catAx>
        <c:axId val="53724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05410"/>
        <c:crosses val="autoZero"/>
        <c:auto val="1"/>
        <c:lblAlgn val="ctr"/>
        <c:lblOffset val="100"/>
        <c:noMultiLvlLbl val="0"/>
      </c:catAx>
      <c:valAx>
        <c:axId val="28205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24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B29-CEA1-46F2-BB3E-0305F727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6A2-9021-4B2A-B9FF-0B481D50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AA7-5B9E-4712-BBEC-8F424302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F51-D8BA-45FB-952F-4F08D4B7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3B2-1D1D-46A7-983E-0EA99E1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9A6-67A0-4FDA-BA78-A3391A38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35D-EF21-4DE5-BE32-80EBCFA4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172-6E86-49A7-BB69-8410C19C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354-15D8-4C8D-8256-7845C744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85F-5C73-4F53-A16C-C5C1D2FA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86B-4694-495F-A107-E477B71B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78B-DD67-49B0-AF25-76E29FF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916CB-CCC2-492D-B64B-7E63A99606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