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072543"/>
        <c:axId val="1570600"/>
      </c:barChart>
      <c:catAx>
        <c:axId val="24072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0600"/>
        <c:crosses val="autoZero"/>
        <c:auto val="1"/>
        <c:lblAlgn val="ctr"/>
        <c:lblOffset val="100"/>
        <c:noMultiLvlLbl val="0"/>
      </c:catAx>
      <c:valAx>
        <c:axId val="15706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72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CFC-7FD9-45CC-AD40-2AEB3243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775-A2BF-4A49-A2C2-9DF77C49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E213-636E-421A-983D-07575CD6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B1E-E540-4067-8024-156074AE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7A91-21E8-42A9-940D-CB426962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92D-D688-4215-A33C-EED7BA49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412B-B2B9-4398-8D9A-88356CF1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E4E-DD79-47EB-8224-FF3C4A68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D493-4CB7-489A-B804-84EC7541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0DD3-4A87-48ED-BFEC-EFFF20EA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4A6-3650-449F-B574-24448D56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CA2E-D84E-4E81-8B54-3FF4CE0B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6BE43-F2E6-4C20-9802-7355C99123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