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79402"/>
        <c:axId val="87191982"/>
      </c:barChart>
      <c:catAx>
        <c:axId val="66179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91982"/>
        <c:crosses val="autoZero"/>
        <c:auto val="1"/>
        <c:lblAlgn val="ctr"/>
        <c:lblOffset val="100"/>
        <c:noMultiLvlLbl val="0"/>
      </c:catAx>
      <c:valAx>
        <c:axId val="87191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79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042-E020-4AD2-B1C3-C510C349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40C-721C-4BF2-A761-D1DA62F9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D6D-863D-4E79-BFD9-3C8BCD89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069-110A-48A9-A177-B0A8F591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073-B1A0-42B6-A3B6-B10FE078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104-BDC2-4182-B1EE-66C14FF3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4C2-2764-4D97-A18E-1C663AC3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DDD-3061-425C-9F60-33D840E0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E23-3FC5-4569-9C26-22F4CF8C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21C-D822-410C-A66D-4E318F81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6B0-00FA-41FD-9FD9-850B63FB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15CF-A5EC-4E34-96C3-93FC26E2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172F2-0822-490B-802A-EFC95C20A1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