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49138"/>
        <c:axId val="80178479"/>
      </c:barChart>
      <c:catAx>
        <c:axId val="60049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78479"/>
        <c:crosses val="autoZero"/>
        <c:auto val="1"/>
        <c:lblAlgn val="ctr"/>
        <c:lblOffset val="100"/>
        <c:noMultiLvlLbl val="0"/>
      </c:catAx>
      <c:valAx>
        <c:axId val="80178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9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59D-4DC9-42E2-8CF7-95B23C46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A22-23DA-4996-BF8B-EE6DDB2F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B95-8BFE-46FD-9D22-AE28F2FD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691-0229-4A7F-ACBB-0BA44AF4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647-4BE6-425D-B9A0-F77C2E4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C35-3A02-4C45-B383-BEE5CE9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B0C-D61F-4662-BE1B-279F86B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B21-23E4-4699-9D0A-0E829AE5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1A7-13AB-4285-AD8C-78146A1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B96-ECA8-4E80-BEEA-B19C898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BF5-26D2-42D3-8B3A-0BE2EDA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16E-1577-4148-9F87-1389E9F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E0489-F42B-4AC9-AB0D-A8F2A2DFC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