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6915"/>
        <c:axId val="48169896"/>
      </c:barChart>
      <c:catAx>
        <c:axId val="85069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69896"/>
        <c:crosses val="autoZero"/>
        <c:auto val="1"/>
        <c:lblAlgn val="ctr"/>
        <c:lblOffset val="100"/>
        <c:noMultiLvlLbl val="0"/>
      </c:catAx>
      <c:valAx>
        <c:axId val="48169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9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BDB-B2C9-4F02-B172-9853A6C2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411-E5FB-4DC1-8F55-4267140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4A1-D3EE-48D9-B776-07E55437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E66-A35E-4FEC-9A0A-299607CE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64E-31B0-443A-8AAE-977A1C7E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995-E09E-4AD7-9CBB-A15826E2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FF4-A392-4706-83C7-0CB922B0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F29C-CBB3-4EC3-A3DE-B65193A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E28-E679-4B0F-83C7-C07AA47D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2F2-0933-46A5-B271-E0D80B72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0DE2-056B-4FAA-9C09-8E4BFAED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32C-63D4-49DA-A9A1-C51A30F3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8F985-A54A-41EF-9601-D3EAB655F6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