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79120"/>
        <c:axId val="49244081"/>
      </c:barChart>
      <c:catAx>
        <c:axId val="61791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44081"/>
        <c:crosses val="autoZero"/>
        <c:auto val="1"/>
        <c:lblAlgn val="ctr"/>
        <c:lblOffset val="100"/>
        <c:noMultiLvlLbl val="0"/>
      </c:catAx>
      <c:valAx>
        <c:axId val="492440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91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AC21-8F4E-4244-B581-B79FFB08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DC42-25D1-4339-9492-55AB08D4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D856-4EA0-46F1-9B27-0775C1F99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7F0B-F919-4E97-86CE-1006B925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AC40-AD32-4CB2-9F2C-1AE575BD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7363-CBE2-4F0B-9A6F-0AA5C574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E6BA-1FF3-4000-9CB4-5628E533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808E-79F2-41C0-97FE-109C9AA5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FD49-768A-408F-98FB-57063B82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721D-E992-416D-B343-46CB9C6B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C3F0-0A5B-4E40-8DA0-24DFFCCA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9CE3-4271-4E70-835A-48CA4EE8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06EFF-E337-4AD0-9CC6-AB830200F5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