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3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72288" cy="9791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72400" cy="97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0" y="-1440"/>
            <a:ext cx="2976480" cy="4903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3894120" y="-1440"/>
            <a:ext cx="2976480" cy="4903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993240" y="739800"/>
            <a:ext cx="4883400" cy="3659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5"/>
          </p:nvPr>
        </p:nvSpPr>
        <p:spPr>
          <a:xfrm>
            <a:off x="0" y="9299160"/>
            <a:ext cx="2976480" cy="490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6"/>
          </p:nvPr>
        </p:nvSpPr>
        <p:spPr>
          <a:xfrm>
            <a:off x="3894120" y="9299160"/>
            <a:ext cx="2976480" cy="490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B236AB86-0370-4729-ADF4-EB30AB5A532C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assic examp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nk account transf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it one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dit another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st be an ‘atomic’ oper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n’t allow debit without the cred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er-side errors: disk crash e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side errors: program die()’s or is kil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assic examp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nk account transf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it one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dit another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st be an ‘atomic’ oper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n’t allow debit without the cred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er-side errors: disk crash e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side errors: program die()’s or is kil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assic examp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nk account transf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it one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dit another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st be an ‘atomic’ oper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n’t allow debit without the cred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er-side errors: disk crash e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side errors: program die()’s or is kil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ercial tools for these tend to lack the flexibility of Perl (in breadth and depth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can find yourself wasting time working around the limitations of blunt commercial too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Por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Unix variants - (not heard of any it won’t build 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ndows 95, Windows NT, V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s out-of-the-bo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Dri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DBC, Oracle, Informix, DB2, Ingres, Solid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hancements to the DBI (inc. docs) will make it eas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ODBC/JDB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ways of specifying (data types, meta-data, options et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ways of do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BI won’t re-invent these wheels - but may make them easier to steer! (by offering higher-level interfaces to them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is data types and meta-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pecifying the unspecifi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ing features once they’ve stabiliz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h as placeholders and bind variab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creenshot of the explain tool in a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few lines of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simple to learn and u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89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Native API’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will generally offer the most power, e.g., Oracle OC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take a lot of effort to learn and u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ledge is rarely portable to other AP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ic application language interfaces: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ODBC and JDB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ill lots of effort to lea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ledge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i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portable between data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wer is dependant on quality of ODBC d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Pre-compiler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or C (where SQL is embedded in C and ‘precompiled’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pler than a raw C API but typically less power. Hard to debu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Command lin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ccess - Just type it i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te SQL from scripts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robust - hard to check for and respond to 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cript Langu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CL (oratcl, sybtcl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generally much slower. Binary data ha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Win32::ODB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- a bottom-up approach - thin layer over raw ODBC calls. DBI is higher level but DBD::ODBC doesn’t yet have the same breadth of ODBC specific functionality. Recommended for existing users and people who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nee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hat degree of contro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BI+DBD::ODBC can run twice as fast as Win32::ODB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base - and other database specific perl exten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gain some performance advantage if well written but loose out on the DBI extras: portable apps &amp; knowledge, tools, subclasses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ilar in concept to an ODBC Driver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BI provides methods, functions and tools et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ps ensure conformant implemen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efficient implemen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more automatic support for new fea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3556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998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6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3556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998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B7039-DD76-43E1-A5D5-61A71DF68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DB8F7-A6DF-4047-9DBE-9EBBA1602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B77A7-CDB1-4978-8055-1DB411026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08172-68FD-4F54-9064-D4EE9C980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4BAC3-D468-4331-A6D0-2A3B85311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2057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12FB4-8B1E-4720-A537-913891B98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787B3-35EC-496F-8072-B9C4165D1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77199-DDEE-4565-BC12-471E9D561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B8752-E322-4599-B4DC-4386C74AA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4983F-B57C-42D5-9986-095ABA278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9A6DA-A188-44F3-A8FF-24C9C2DE0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53556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6998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3716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53556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6998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818F0-5E58-42CB-9844-DBAD0C481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2057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428840"/>
            <a:ext cx="9142560" cy="152280"/>
            <a:chOff x="0" y="1428840"/>
            <a:chExt cx="9142560" cy="152280"/>
          </a:xfrm>
        </p:grpSpPr>
        <p:sp>
          <p:nvSpPr>
            <p:cNvPr id="1" name=""/>
            <p:cNvSpPr/>
            <p:nvPr/>
          </p:nvSpPr>
          <p:spPr>
            <a:xfrm>
              <a:off x="0" y="1428840"/>
              <a:ext cx="914256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42960"/>
              <a:ext cx="914256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cc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8355600" y="6408360"/>
            <a:ext cx="995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5CA1D-D909-4BB2-8B62-FCF6D7885820}" type="slidenum">
              <a:rPr b="0" i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02162-D658-4E85-8A7C-23E0FFDB5C8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4680" y="3276720"/>
            <a:ext cx="9137880" cy="152280"/>
            <a:chOff x="4680" y="3276720"/>
            <a:chExt cx="9137880" cy="152280"/>
          </a:xfrm>
        </p:grpSpPr>
        <p:sp>
          <p:nvSpPr>
            <p:cNvPr id="47" name=""/>
            <p:cNvSpPr/>
            <p:nvPr/>
          </p:nvSpPr>
          <p:spPr>
            <a:xfrm>
              <a:off x="4680" y="3276720"/>
              <a:ext cx="913788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680" y="3390840"/>
              <a:ext cx="913788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cc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ff"/>
              </a:buClr>
              <a:buSzPct val="7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Arial"/>
              </a:rPr>
              <a:t>Getting Serious</a:t>
            </a:r>
            <a:br>
              <a:rPr sz="4400"/>
            </a:br>
            <a:r>
              <a:rPr b="0" lang="en-US" sz="4400" spc="-1" strike="noStrike">
                <a:solidFill>
                  <a:srgbClr val="00cccc"/>
                </a:solidFill>
                <a:latin typeface="Arial"/>
              </a:rPr>
              <a:t>with the Perl DBI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66"/>
                </a:solidFill>
                <a:latin typeface="Times New Roman"/>
              </a:rPr>
              <a:t>Making simple things easy and difficult things possible</a:t>
            </a:r>
            <a:r>
              <a:rPr b="0" lang="en-US" sz="3200" spc="-1" strike="noStrike">
                <a:solidFill>
                  <a:srgbClr val="ffcc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ff"/>
                </a:solidFill>
                <a:latin typeface="Arial"/>
              </a:rPr>
              <a:t>Tim Bu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6400" y="6408360"/>
            <a:ext cx="1188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August 199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rchitecture of the DBI Classes #1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724280" y="1752480"/>
            <a:ext cx="0" cy="4876920"/>
          </a:xfrm>
          <a:prstGeom prst="line">
            <a:avLst/>
          </a:prstGeom>
          <a:ln cap="rnd" w="12600">
            <a:solidFill>
              <a:srgbClr val="00cc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809880" y="1752480"/>
            <a:ext cx="7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‘’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uter’’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4876920" y="3876480"/>
            <a:ext cx="3377160" cy="1219320"/>
            <a:chOff x="4876920" y="3876480"/>
            <a:chExt cx="3377160" cy="1219320"/>
          </a:xfrm>
        </p:grpSpPr>
        <p:sp>
          <p:nvSpPr>
            <p:cNvPr id="164" name=""/>
            <p:cNvSpPr/>
            <p:nvPr/>
          </p:nvSpPr>
          <p:spPr>
            <a:xfrm>
              <a:off x="4876920" y="4572000"/>
              <a:ext cx="106668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952520" y="464832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019920" y="4572000"/>
              <a:ext cx="106668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095520" y="4648320"/>
              <a:ext cx="107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162920" y="4572000"/>
              <a:ext cx="106668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238160" y="4648320"/>
              <a:ext cx="101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70" name=""/>
            <p:cNvCxnSpPr>
              <a:stCxn id="164" idx="0"/>
              <a:endCxn id="171" idx="2"/>
            </p:cNvCxnSpPr>
            <p:nvPr/>
          </p:nvCxnSpPr>
          <p:spPr>
            <a:xfrm flipV="1">
              <a:off x="5409720" y="3876480"/>
              <a:ext cx="22932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72" name=""/>
            <p:cNvCxnSpPr>
              <a:stCxn id="166" idx="0"/>
              <a:endCxn id="173" idx="2"/>
            </p:cNvCxnSpPr>
            <p:nvPr/>
          </p:nvCxnSpPr>
          <p:spPr>
            <a:xfrm flipV="1">
              <a:off x="6552720" y="3876480"/>
              <a:ext cx="22932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74" name=""/>
            <p:cNvCxnSpPr>
              <a:stCxn id="168" idx="0"/>
              <a:endCxn id="175" idx="2"/>
            </p:cNvCxnSpPr>
            <p:nvPr/>
          </p:nvCxnSpPr>
          <p:spPr>
            <a:xfrm flipV="1">
              <a:off x="7695720" y="3876480"/>
              <a:ext cx="22932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</p:grpSp>
      <p:sp>
        <p:nvSpPr>
          <p:cNvPr id="176" name=""/>
          <p:cNvSpPr/>
          <p:nvPr/>
        </p:nvSpPr>
        <p:spPr>
          <a:xfrm flipH="1">
            <a:off x="3885840" y="2057400"/>
            <a:ext cx="685800" cy="0"/>
          </a:xfrm>
          <a:prstGeom prst="line">
            <a:avLst/>
          </a:prstGeom>
          <a:ln w="19080">
            <a:solidFill>
              <a:srgbClr val="ffff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228600" y="3809880"/>
            <a:ext cx="4175640" cy="2044080"/>
            <a:chOff x="228600" y="3809880"/>
            <a:chExt cx="4175640" cy="2044080"/>
          </a:xfrm>
        </p:grpSpPr>
        <p:sp>
          <p:nvSpPr>
            <p:cNvPr id="178" name=""/>
            <p:cNvSpPr/>
            <p:nvPr/>
          </p:nvSpPr>
          <p:spPr>
            <a:xfrm>
              <a:off x="228600" y="3809880"/>
              <a:ext cx="685800" cy="52380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31560" y="388584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80" name=""/>
            <p:cNvGrpSpPr/>
            <p:nvPr/>
          </p:nvGrpSpPr>
          <p:grpSpPr>
            <a:xfrm>
              <a:off x="990720" y="4571640"/>
              <a:ext cx="1066320" cy="524160"/>
              <a:chOff x="990720" y="4571640"/>
              <a:chExt cx="1066320" cy="524160"/>
            </a:xfrm>
          </p:grpSpPr>
          <p:sp>
            <p:nvSpPr>
              <p:cNvPr id="181" name=""/>
              <p:cNvSpPr/>
              <p:nvPr/>
            </p:nvSpPr>
            <p:spPr>
              <a:xfrm>
                <a:off x="990720" y="4571640"/>
                <a:ext cx="106632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1079280" y="4647960"/>
                <a:ext cx="736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dr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3" name=""/>
            <p:cNvGrpSpPr/>
            <p:nvPr/>
          </p:nvGrpSpPr>
          <p:grpSpPr>
            <a:xfrm>
              <a:off x="2133720" y="4571640"/>
              <a:ext cx="1066320" cy="524160"/>
              <a:chOff x="2133720" y="4571640"/>
              <a:chExt cx="1066320" cy="524160"/>
            </a:xfrm>
          </p:grpSpPr>
          <p:sp>
            <p:nvSpPr>
              <p:cNvPr id="184" name=""/>
              <p:cNvSpPr/>
              <p:nvPr/>
            </p:nvSpPr>
            <p:spPr>
              <a:xfrm>
                <a:off x="2133720" y="4571640"/>
                <a:ext cx="106632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2221920" y="4647960"/>
                <a:ext cx="776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db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6" name=""/>
            <p:cNvGrpSpPr/>
            <p:nvPr/>
          </p:nvGrpSpPr>
          <p:grpSpPr>
            <a:xfrm>
              <a:off x="3276720" y="4571640"/>
              <a:ext cx="1066320" cy="524160"/>
              <a:chOff x="3276720" y="4571640"/>
              <a:chExt cx="1066320" cy="524160"/>
            </a:xfrm>
          </p:grpSpPr>
          <p:sp>
            <p:nvSpPr>
              <p:cNvPr id="187" name=""/>
              <p:cNvSpPr/>
              <p:nvPr/>
            </p:nvSpPr>
            <p:spPr>
              <a:xfrm>
                <a:off x="3276720" y="4571640"/>
                <a:ext cx="106632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3364560" y="4647960"/>
                <a:ext cx="718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s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89" name=""/>
            <p:cNvSpPr/>
            <p:nvPr/>
          </p:nvSpPr>
          <p:spPr>
            <a:xfrm>
              <a:off x="902880" y="5333760"/>
              <a:ext cx="3501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 handle classes visible to applications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ese classes are effectively ‘empty’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27600" y="3876480"/>
            <a:ext cx="4280040" cy="2526480"/>
            <a:chOff x="4827600" y="3876480"/>
            <a:chExt cx="4280040" cy="2526480"/>
          </a:xfrm>
        </p:grpSpPr>
        <p:sp>
          <p:nvSpPr>
            <p:cNvPr id="191" name=""/>
            <p:cNvSpPr/>
            <p:nvPr/>
          </p:nvSpPr>
          <p:spPr>
            <a:xfrm>
              <a:off x="5754600" y="5334120"/>
              <a:ext cx="106704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790960" y="541008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897600" y="5334120"/>
              <a:ext cx="106704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933960" y="5410080"/>
              <a:ext cx="107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8040600" y="5334120"/>
              <a:ext cx="106704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076600" y="5410080"/>
              <a:ext cx="101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97" name=""/>
            <p:cNvCxnSpPr>
              <a:stCxn id="191" idx="0"/>
              <a:endCxn id="171" idx="2"/>
            </p:cNvCxnSpPr>
            <p:nvPr/>
          </p:nvCxnSpPr>
          <p:spPr>
            <a:xfrm flipH="1" flipV="1">
              <a:off x="5638320" y="3876480"/>
              <a:ext cx="650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98" name=""/>
            <p:cNvCxnSpPr>
              <a:stCxn id="193" idx="0"/>
              <a:endCxn id="173" idx="2"/>
            </p:cNvCxnSpPr>
            <p:nvPr/>
          </p:nvCxnSpPr>
          <p:spPr>
            <a:xfrm flipH="1" flipV="1">
              <a:off x="6781320" y="3876480"/>
              <a:ext cx="650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99" name=""/>
            <p:cNvCxnSpPr>
              <a:stCxn id="195" idx="0"/>
              <a:endCxn id="175" idx="2"/>
            </p:cNvCxnSpPr>
            <p:nvPr/>
          </p:nvCxnSpPr>
          <p:spPr>
            <a:xfrm flipH="1" flipV="1">
              <a:off x="7924320" y="3876480"/>
              <a:ext cx="650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sp>
          <p:nvSpPr>
            <p:cNvPr id="200" name=""/>
            <p:cNvSpPr/>
            <p:nvPr/>
          </p:nvSpPr>
          <p:spPr>
            <a:xfrm>
              <a:off x="4827600" y="6095880"/>
              <a:ext cx="395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arallel handle classes implemented by drivers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4876920" y="1752480"/>
            <a:ext cx="4264920" cy="2124360"/>
            <a:chOff x="4876920" y="1752480"/>
            <a:chExt cx="4264920" cy="2124360"/>
          </a:xfrm>
        </p:grpSpPr>
        <p:grpSp>
          <p:nvGrpSpPr>
            <p:cNvPr id="202" name=""/>
            <p:cNvGrpSpPr/>
            <p:nvPr/>
          </p:nvGrpSpPr>
          <p:grpSpPr>
            <a:xfrm>
              <a:off x="5638680" y="2133720"/>
              <a:ext cx="2286000" cy="1218600"/>
              <a:chOff x="5638680" y="2133720"/>
              <a:chExt cx="2286000" cy="1218600"/>
            </a:xfrm>
          </p:grpSpPr>
          <p:sp>
            <p:nvSpPr>
              <p:cNvPr id="203" name=""/>
              <p:cNvSpPr/>
              <p:nvPr/>
            </p:nvSpPr>
            <p:spPr>
              <a:xfrm>
                <a:off x="6018120" y="2209680"/>
                <a:ext cx="1538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D::_::common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5943600" y="2133720"/>
                <a:ext cx="1600200" cy="52380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05" name=""/>
              <p:cNvCxnSpPr>
                <a:stCxn id="171" idx="0"/>
                <a:endCxn id="204" idx="2"/>
              </p:cNvCxnSpPr>
              <p:nvPr/>
            </p:nvCxnSpPr>
            <p:spPr>
              <a:xfrm flipV="1">
                <a:off x="5638680" y="2657160"/>
                <a:ext cx="110592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  <p:cxnSp>
            <p:nvCxnSpPr>
              <p:cNvPr id="206" name=""/>
              <p:cNvCxnSpPr>
                <a:stCxn id="173" idx="0"/>
                <a:endCxn id="204" idx="2"/>
              </p:cNvCxnSpPr>
              <p:nvPr/>
            </p:nvCxnSpPr>
            <p:spPr>
              <a:xfrm flipH="1" flipV="1">
                <a:off x="6743160" y="2657160"/>
                <a:ext cx="3852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  <p:cxnSp>
            <p:nvCxnSpPr>
              <p:cNvPr id="207" name=""/>
              <p:cNvCxnSpPr>
                <a:stCxn id="175" idx="0"/>
                <a:endCxn id="204" idx="2"/>
              </p:cNvCxnSpPr>
              <p:nvPr/>
            </p:nvCxnSpPr>
            <p:spPr>
              <a:xfrm flipH="1" flipV="1">
                <a:off x="6743520" y="2657160"/>
                <a:ext cx="118152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</p:grpSp>
        <p:grpSp>
          <p:nvGrpSpPr>
            <p:cNvPr id="208" name=""/>
            <p:cNvGrpSpPr/>
            <p:nvPr/>
          </p:nvGrpSpPr>
          <p:grpSpPr>
            <a:xfrm>
              <a:off x="4876920" y="1752480"/>
              <a:ext cx="3598920" cy="2124360"/>
              <a:chOff x="4876920" y="1752480"/>
              <a:chExt cx="3598920" cy="212436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105520" y="3352680"/>
                <a:ext cx="1102320" cy="524160"/>
                <a:chOff x="5105520" y="3352680"/>
                <a:chExt cx="1102320" cy="524160"/>
              </a:xfrm>
            </p:grpSpPr>
            <p:sp>
              <p:nvSpPr>
                <p:cNvPr id="171" name=""/>
                <p:cNvSpPr/>
                <p:nvPr/>
              </p:nvSpPr>
              <p:spPr>
                <a:xfrm>
                  <a:off x="5105520" y="3352680"/>
                  <a:ext cx="106668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5193360" y="3429000"/>
                  <a:ext cx="1014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dr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1" name=""/>
              <p:cNvGrpSpPr/>
              <p:nvPr/>
            </p:nvGrpSpPr>
            <p:grpSpPr>
              <a:xfrm>
                <a:off x="6248520" y="3352680"/>
                <a:ext cx="1141920" cy="524160"/>
                <a:chOff x="6248520" y="3352680"/>
                <a:chExt cx="1141920" cy="52416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248520" y="3352680"/>
                  <a:ext cx="106704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6336360" y="3429000"/>
                  <a:ext cx="1054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db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3" name=""/>
              <p:cNvGrpSpPr/>
              <p:nvPr/>
            </p:nvGrpSpPr>
            <p:grpSpPr>
              <a:xfrm>
                <a:off x="7391520" y="3352680"/>
                <a:ext cx="1084320" cy="524160"/>
                <a:chOff x="7391520" y="3352680"/>
                <a:chExt cx="1084320" cy="524160"/>
              </a:xfrm>
            </p:grpSpPr>
            <p:sp>
              <p:nvSpPr>
                <p:cNvPr id="175" name=""/>
                <p:cNvSpPr/>
                <p:nvPr/>
              </p:nvSpPr>
              <p:spPr>
                <a:xfrm>
                  <a:off x="7391520" y="3352680"/>
                  <a:ext cx="106776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7479720" y="3429000"/>
                  <a:ext cx="9961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st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5" name=""/>
              <p:cNvSpPr/>
              <p:nvPr/>
            </p:nvSpPr>
            <p:spPr>
              <a:xfrm>
                <a:off x="4877280" y="1752480"/>
                <a:ext cx="735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inn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4876920" y="2057400"/>
                <a:ext cx="68580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7906680" y="2068560"/>
              <a:ext cx="123516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ase class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roviding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fallbac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ehavior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rchitecture of the DBI Classes #2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3733560" y="1752480"/>
            <a:ext cx="2400840" cy="4193280"/>
            <a:chOff x="3733560" y="1752480"/>
            <a:chExt cx="2400840" cy="4193280"/>
          </a:xfrm>
        </p:grpSpPr>
        <p:cxnSp>
          <p:nvCxnSpPr>
            <p:cNvPr id="220" name=""/>
            <p:cNvCxnSpPr>
              <a:stCxn id="221" idx="1"/>
              <a:endCxn id="222" idx="3"/>
            </p:cNvCxnSpPr>
            <p:nvPr/>
          </p:nvCxnSpPr>
          <p:spPr>
            <a:xfrm flipH="1">
              <a:off x="3739320" y="2361960"/>
              <a:ext cx="756360" cy="15246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3" name=""/>
            <p:cNvCxnSpPr>
              <a:stCxn id="222" idx="3"/>
            </p:cNvCxnSpPr>
            <p:nvPr/>
          </p:nvCxnSpPr>
          <p:spPr>
            <a:xfrm flipV="1">
              <a:off x="3739680" y="3276000"/>
              <a:ext cx="75636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4" name=""/>
            <p:cNvCxnSpPr>
              <a:stCxn id="222" idx="3"/>
            </p:cNvCxnSpPr>
            <p:nvPr/>
          </p:nvCxnSpPr>
          <p:spPr>
            <a:xfrm flipV="1">
              <a:off x="3739680" y="2601360"/>
              <a:ext cx="740520" cy="12848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5" name=""/>
            <p:cNvCxnSpPr>
              <a:stCxn id="222" idx="3"/>
              <a:endCxn id="226" idx="1"/>
            </p:cNvCxnSpPr>
            <p:nvPr/>
          </p:nvCxnSpPr>
          <p:spPr>
            <a:xfrm flipV="1">
              <a:off x="3739680" y="2818800"/>
              <a:ext cx="756360" cy="10674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7" name=""/>
            <p:cNvCxnSpPr>
              <a:stCxn id="222" idx="3"/>
              <a:endCxn id="228" idx="1"/>
            </p:cNvCxnSpPr>
            <p:nvPr/>
          </p:nvCxnSpPr>
          <p:spPr>
            <a:xfrm flipV="1">
              <a:off x="3739680" y="3058560"/>
              <a:ext cx="740520" cy="8276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9" name=""/>
            <p:cNvCxnSpPr>
              <a:stCxn id="222" idx="3"/>
              <a:endCxn id="230" idx="1"/>
            </p:cNvCxnSpPr>
            <p:nvPr/>
          </p:nvCxnSpPr>
          <p:spPr>
            <a:xfrm flipV="1">
              <a:off x="3739680" y="2144160"/>
              <a:ext cx="740520" cy="17420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30" name=""/>
            <p:cNvSpPr/>
            <p:nvPr/>
          </p:nvSpPr>
          <p:spPr>
            <a:xfrm>
              <a:off x="4479840" y="199224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495680" y="22096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495680" y="26668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479840" y="290664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31" name=""/>
            <p:cNvCxnSpPr>
              <a:endCxn id="232" idx="0"/>
            </p:cNvCxnSpPr>
            <p:nvPr/>
          </p:nvCxnSpPr>
          <p:spPr>
            <a:xfrm flipH="1" flipV="1">
              <a:off x="3733560" y="3961800"/>
              <a:ext cx="76248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3" name=""/>
            <p:cNvCxnSpPr>
              <a:stCxn id="232" idx="1"/>
            </p:cNvCxnSpPr>
            <p:nvPr/>
          </p:nvCxnSpPr>
          <p:spPr>
            <a:xfrm>
              <a:off x="3733920" y="3962160"/>
              <a:ext cx="762480" cy="15246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4" name=""/>
            <p:cNvCxnSpPr>
              <a:stCxn id="232" idx="1"/>
              <a:endCxn id="235" idx="1"/>
            </p:cNvCxnSpPr>
            <p:nvPr/>
          </p:nvCxnSpPr>
          <p:spPr>
            <a:xfrm>
              <a:off x="3733920" y="3962160"/>
              <a:ext cx="746640" cy="8499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6" name=""/>
            <p:cNvCxnSpPr>
              <a:stCxn id="232" idx="1"/>
              <a:endCxn id="237" idx="1"/>
            </p:cNvCxnSpPr>
            <p:nvPr/>
          </p:nvCxnSpPr>
          <p:spPr>
            <a:xfrm>
              <a:off x="3733920" y="3962160"/>
              <a:ext cx="762480" cy="10674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8" name=""/>
            <p:cNvCxnSpPr>
              <a:stCxn id="232" idx="1"/>
            </p:cNvCxnSpPr>
            <p:nvPr/>
          </p:nvCxnSpPr>
          <p:spPr>
            <a:xfrm>
              <a:off x="3733920" y="3962160"/>
              <a:ext cx="746640" cy="13071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9" name=""/>
            <p:cNvCxnSpPr>
              <a:stCxn id="232" idx="1"/>
              <a:endCxn id="240" idx="1"/>
            </p:cNvCxnSpPr>
            <p:nvPr/>
          </p:nvCxnSpPr>
          <p:spPr>
            <a:xfrm>
              <a:off x="3733920" y="3962160"/>
              <a:ext cx="746640" cy="3927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40" name=""/>
            <p:cNvSpPr/>
            <p:nvPr/>
          </p:nvSpPr>
          <p:spPr>
            <a:xfrm>
              <a:off x="4479840" y="42022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479840" y="46594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495680" y="487692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191120" y="1752480"/>
              <a:ext cx="1295280" cy="190512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191120" y="4038480"/>
              <a:ext cx="1295280" cy="190512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192200" y="1752480"/>
              <a:ext cx="114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9933"/>
                  </a:solidFill>
                  <a:latin typeface="Arial"/>
                </a:rPr>
                <a:t>DBD::A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192200" y="5638680"/>
              <a:ext cx="114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ff"/>
                  </a:solidFill>
                  <a:latin typeface="Arial"/>
                </a:rPr>
                <a:t>DBD::B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572000" y="259092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572000" y="457200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572000" y="525780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48" name=""/>
            <p:cNvCxnSpPr>
              <a:stCxn id="246" idx="0"/>
              <a:endCxn id="249" idx="1"/>
            </p:cNvCxnSpPr>
            <p:nvPr/>
          </p:nvCxnSpPr>
          <p:spPr>
            <a:xfrm flipV="1">
              <a:off x="5181480" y="3580920"/>
              <a:ext cx="915120" cy="9914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0" name=""/>
            <p:cNvCxnSpPr>
              <a:stCxn id="247" idx="0"/>
              <a:endCxn id="251" idx="1"/>
            </p:cNvCxnSpPr>
            <p:nvPr/>
          </p:nvCxnSpPr>
          <p:spPr>
            <a:xfrm flipV="1">
              <a:off x="5181120" y="4277520"/>
              <a:ext cx="916920" cy="98028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2" name=""/>
            <p:cNvCxnSpPr>
              <a:stCxn id="245" idx="0"/>
              <a:endCxn id="253" idx="1"/>
            </p:cNvCxnSpPr>
            <p:nvPr/>
          </p:nvCxnSpPr>
          <p:spPr>
            <a:xfrm>
              <a:off x="5181120" y="2590560"/>
              <a:ext cx="916920" cy="12308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54" name=""/>
            <p:cNvSpPr/>
            <p:nvPr/>
          </p:nvSpPr>
          <p:spPr>
            <a:xfrm>
              <a:off x="4572000" y="327672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572000" y="548640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6" name=""/>
            <p:cNvCxnSpPr>
              <a:stCxn id="255" idx="0"/>
            </p:cNvCxnSpPr>
            <p:nvPr/>
          </p:nvCxnSpPr>
          <p:spPr>
            <a:xfrm flipV="1">
              <a:off x="5181120" y="4582440"/>
              <a:ext cx="916920" cy="9039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7" name=""/>
            <p:cNvCxnSpPr>
              <a:stCxn id="254" idx="0"/>
            </p:cNvCxnSpPr>
            <p:nvPr/>
          </p:nvCxnSpPr>
          <p:spPr>
            <a:xfrm>
              <a:off x="5181480" y="3276720"/>
              <a:ext cx="953280" cy="1296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</p:grpSp>
      <p:sp>
        <p:nvSpPr>
          <p:cNvPr id="258" name=""/>
          <p:cNvSpPr/>
          <p:nvPr/>
        </p:nvSpPr>
        <p:spPr>
          <a:xfrm>
            <a:off x="152280" y="6858000"/>
            <a:ext cx="1219320" cy="0"/>
          </a:xfrm>
          <a:prstGeom prst="line">
            <a:avLst/>
          </a:prstGeom>
          <a:ln w="19080">
            <a:solidFill>
              <a:srgbClr val="003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1371600" y="6019920"/>
            <a:ext cx="6324840" cy="840240"/>
            <a:chOff x="1371600" y="6019920"/>
            <a:chExt cx="6324840" cy="840240"/>
          </a:xfrm>
        </p:grpSpPr>
        <p:sp>
          <p:nvSpPr>
            <p:cNvPr id="260" name=""/>
            <p:cNvSpPr/>
            <p:nvPr/>
          </p:nvSpPr>
          <p:spPr>
            <a:xfrm>
              <a:off x="4114800" y="6095880"/>
              <a:ext cx="297180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61" name=""/>
            <p:cNvGrpSpPr/>
            <p:nvPr/>
          </p:nvGrpSpPr>
          <p:grpSpPr>
            <a:xfrm>
              <a:off x="4191120" y="6019920"/>
              <a:ext cx="3505320" cy="838080"/>
              <a:chOff x="4191120" y="6019920"/>
              <a:chExt cx="3505320" cy="838080"/>
            </a:xfrm>
          </p:grpSpPr>
          <p:sp>
            <p:nvSpPr>
              <p:cNvPr id="262" name=""/>
              <p:cNvSpPr/>
              <p:nvPr/>
            </p:nvSpPr>
            <p:spPr>
              <a:xfrm>
                <a:off x="4191120" y="6248520"/>
                <a:ext cx="1295280" cy="609480"/>
              </a:xfrm>
              <a:prstGeom prst="rect">
                <a:avLst/>
              </a:prstGeom>
              <a:noFill/>
              <a:ln w="12600">
                <a:solidFill>
                  <a:srgbClr val="ff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4191840" y="6248520"/>
                <a:ext cx="1089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9933"/>
                    </a:solidFill>
                    <a:latin typeface="Arial"/>
                  </a:rPr>
                  <a:t>DBD::A::s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4191120" y="6858000"/>
                <a:ext cx="1295280" cy="0"/>
              </a:xfrm>
              <a:prstGeom prst="line">
                <a:avLst/>
              </a:prstGeom>
              <a:ln w="19080">
                <a:solidFill>
                  <a:srgbClr val="003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65" name=""/>
              <p:cNvCxnSpPr>
                <a:stCxn id="266" idx="3"/>
                <a:endCxn id="267" idx="1"/>
              </p:cNvCxnSpPr>
              <p:nvPr/>
            </p:nvCxnSpPr>
            <p:spPr>
              <a:xfrm flipV="1">
                <a:off x="5254560" y="6019920"/>
                <a:ext cx="2442240" cy="621000"/>
              </a:xfrm>
              <a:prstGeom prst="straightConnector1">
                <a:avLst/>
              </a:prstGeom>
              <a:ln w="12600">
                <a:solidFill>
                  <a:srgbClr val="00cccc"/>
                </a:solidFill>
                <a:prstDash val="sysDot"/>
                <a:miter/>
              </a:ln>
            </p:spPr>
          </p:cxnSp>
          <p:sp>
            <p:nvSpPr>
              <p:cNvPr id="266" name=""/>
              <p:cNvSpPr/>
              <p:nvPr/>
            </p:nvSpPr>
            <p:spPr>
              <a:xfrm>
                <a:off x="4479840" y="648828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9933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68" name=""/>
            <p:cNvGrpSpPr/>
            <p:nvPr/>
          </p:nvGrpSpPr>
          <p:grpSpPr>
            <a:xfrm>
              <a:off x="1371600" y="6248520"/>
              <a:ext cx="1447920" cy="611640"/>
              <a:chOff x="1371600" y="6248520"/>
              <a:chExt cx="1447920" cy="611640"/>
            </a:xfrm>
          </p:grpSpPr>
          <p:sp>
            <p:nvSpPr>
              <p:cNvPr id="269" name=""/>
              <p:cNvSpPr/>
              <p:nvPr/>
            </p:nvSpPr>
            <p:spPr>
              <a:xfrm>
                <a:off x="1905120" y="655308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1828800" y="6248520"/>
                <a:ext cx="990720" cy="609480"/>
              </a:xfrm>
              <a:prstGeom prst="rect">
                <a:avLst/>
              </a:prstGeom>
              <a:noFill/>
              <a:ln cap="rnd" w="12600">
                <a:solidFill>
                  <a:srgbClr val="ffff6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1829160" y="6248520"/>
                <a:ext cx="764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66"/>
                    </a:solidFill>
                    <a:latin typeface="Arial"/>
                  </a:rPr>
                  <a:t>DBI::s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1371600" y="670572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1828800" y="6858000"/>
                <a:ext cx="990720" cy="0"/>
              </a:xfrm>
              <a:prstGeom prst="line">
                <a:avLst/>
              </a:prstGeom>
              <a:ln w="19080">
                <a:solidFill>
                  <a:srgbClr val="003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74" name=""/>
          <p:cNvGrpSpPr/>
          <p:nvPr/>
        </p:nvGrpSpPr>
        <p:grpSpPr>
          <a:xfrm>
            <a:off x="152280" y="1676520"/>
            <a:ext cx="3108240" cy="5181480"/>
            <a:chOff x="152280" y="1676520"/>
            <a:chExt cx="3108240" cy="5181480"/>
          </a:xfrm>
        </p:grpSpPr>
        <p:sp>
          <p:nvSpPr>
            <p:cNvPr id="275" name=""/>
            <p:cNvSpPr/>
            <p:nvPr/>
          </p:nvSpPr>
          <p:spPr>
            <a:xfrm>
              <a:off x="152280" y="1752480"/>
              <a:ext cx="1219320" cy="51055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kes call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o method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sing DBI hand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bject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76" name=""/>
            <p:cNvGrpSpPr/>
            <p:nvPr/>
          </p:nvGrpSpPr>
          <p:grpSpPr>
            <a:xfrm>
              <a:off x="1371600" y="2895480"/>
              <a:ext cx="1523880" cy="1981440"/>
              <a:chOff x="1371600" y="2895480"/>
              <a:chExt cx="1523880" cy="1981440"/>
            </a:xfrm>
          </p:grpSpPr>
          <p:cxnSp>
            <p:nvCxnSpPr>
              <p:cNvPr id="277" name=""/>
              <p:cNvCxnSpPr>
                <a:stCxn id="278" idx="3"/>
                <a:endCxn id="222" idx="1"/>
              </p:cNvCxnSpPr>
              <p:nvPr/>
            </p:nvCxnSpPr>
            <p:spPr>
              <a:xfrm>
                <a:off x="2680920" y="3363480"/>
                <a:ext cx="214920" cy="52308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79" name=""/>
              <p:cNvCxnSpPr>
                <a:stCxn id="222" idx="1"/>
                <a:endCxn id="280" idx="3"/>
              </p:cNvCxnSpPr>
              <p:nvPr/>
            </p:nvCxnSpPr>
            <p:spPr>
              <a:xfrm flipH="1" flipV="1">
                <a:off x="2680560" y="3820680"/>
                <a:ext cx="214920" cy="6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1" name=""/>
              <p:cNvCxnSpPr>
                <a:stCxn id="222" idx="1"/>
                <a:endCxn id="282" idx="3"/>
              </p:cNvCxnSpPr>
              <p:nvPr/>
            </p:nvCxnSpPr>
            <p:spPr>
              <a:xfrm flipH="1">
                <a:off x="2679120" y="3885840"/>
                <a:ext cx="216360" cy="15300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3" name=""/>
              <p:cNvCxnSpPr>
                <a:stCxn id="222" idx="1"/>
                <a:endCxn id="284" idx="3"/>
              </p:cNvCxnSpPr>
              <p:nvPr/>
            </p:nvCxnSpPr>
            <p:spPr>
              <a:xfrm flipH="1">
                <a:off x="2680560" y="3885840"/>
                <a:ext cx="214920" cy="3927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5" name=""/>
              <p:cNvCxnSpPr>
                <a:stCxn id="222" idx="1"/>
                <a:endCxn id="286" idx="3"/>
              </p:cNvCxnSpPr>
              <p:nvPr/>
            </p:nvCxnSpPr>
            <p:spPr>
              <a:xfrm flipH="1">
                <a:off x="2679120" y="3885840"/>
                <a:ext cx="216360" cy="61020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7" name=""/>
              <p:cNvCxnSpPr>
                <a:stCxn id="222" idx="1"/>
                <a:endCxn id="288" idx="3"/>
              </p:cNvCxnSpPr>
              <p:nvPr/>
            </p:nvCxnSpPr>
            <p:spPr>
              <a:xfrm flipH="1" flipV="1">
                <a:off x="2679120" y="3580560"/>
                <a:ext cx="216360" cy="30564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sp>
            <p:nvSpPr>
              <p:cNvPr id="278" name=""/>
              <p:cNvSpPr/>
              <p:nvPr/>
            </p:nvSpPr>
            <p:spPr>
              <a:xfrm>
                <a:off x="1906560" y="321156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1905120" y="342900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1906560" y="366876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905120" y="388620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1906560" y="412596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1905120" y="434340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1828800" y="2895480"/>
                <a:ext cx="990720" cy="1981440"/>
              </a:xfrm>
              <a:prstGeom prst="rect">
                <a:avLst/>
              </a:prstGeom>
              <a:noFill/>
              <a:ln cap="rnd" w="12600">
                <a:solidFill>
                  <a:srgbClr val="ffff6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1829520" y="2895480"/>
                <a:ext cx="82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66"/>
                    </a:solidFill>
                    <a:latin typeface="Arial"/>
                  </a:rPr>
                  <a:t>DBI::db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1371600" y="33526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371600" y="35812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1371600" y="38098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1371600" y="40384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1371600" y="42670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1371600" y="44956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97" name=""/>
            <p:cNvGrpSpPr/>
            <p:nvPr/>
          </p:nvGrpSpPr>
          <p:grpSpPr>
            <a:xfrm>
              <a:off x="2514600" y="1676520"/>
              <a:ext cx="745920" cy="307080"/>
              <a:chOff x="2514600" y="1676520"/>
              <a:chExt cx="745920" cy="307080"/>
            </a:xfrm>
          </p:grpSpPr>
          <p:sp>
            <p:nvSpPr>
              <p:cNvPr id="298" name=""/>
              <p:cNvSpPr/>
              <p:nvPr/>
            </p:nvSpPr>
            <p:spPr>
              <a:xfrm>
                <a:off x="2514600" y="1676520"/>
                <a:ext cx="745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out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>
                <a:off x="2590560" y="1981080"/>
                <a:ext cx="60984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0" name=""/>
          <p:cNvGrpSpPr/>
          <p:nvPr/>
        </p:nvGrpSpPr>
        <p:grpSpPr>
          <a:xfrm>
            <a:off x="2894400" y="1676520"/>
            <a:ext cx="846720" cy="5181480"/>
            <a:chOff x="2894400" y="1676520"/>
            <a:chExt cx="846720" cy="5181480"/>
          </a:xfrm>
        </p:grpSpPr>
        <p:grpSp>
          <p:nvGrpSpPr>
            <p:cNvPr id="301" name=""/>
            <p:cNvGrpSpPr/>
            <p:nvPr/>
          </p:nvGrpSpPr>
          <p:grpSpPr>
            <a:xfrm>
              <a:off x="2894400" y="3505320"/>
              <a:ext cx="846720" cy="535680"/>
              <a:chOff x="2894400" y="3505320"/>
              <a:chExt cx="846720" cy="535680"/>
            </a:xfrm>
          </p:grpSpPr>
          <p:sp>
            <p:nvSpPr>
              <p:cNvPr id="222" name=""/>
              <p:cNvSpPr/>
              <p:nvPr/>
            </p:nvSpPr>
            <p:spPr>
              <a:xfrm>
                <a:off x="2894400" y="3733920"/>
                <a:ext cx="846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66"/>
                    </a:solidFill>
                    <a:latin typeface="Arial"/>
                  </a:rPr>
                  <a:t>dispatch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3733920" y="3962520"/>
                <a:ext cx="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3049560" y="3505320"/>
                <a:ext cx="478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66"/>
                    </a:solidFill>
                    <a:latin typeface="Arial"/>
                  </a:rPr>
                  <a:t>DBI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04" name=""/>
            <p:cNvSpPr/>
            <p:nvPr/>
          </p:nvSpPr>
          <p:spPr>
            <a:xfrm>
              <a:off x="3276720" y="1676520"/>
              <a:ext cx="0" cy="175248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276720" y="4114800"/>
              <a:ext cx="0" cy="274320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3277080" y="1676520"/>
            <a:ext cx="5562720" cy="5181480"/>
            <a:chOff x="3277080" y="1676520"/>
            <a:chExt cx="5562720" cy="5181480"/>
          </a:xfrm>
        </p:grpSpPr>
        <p:grpSp>
          <p:nvGrpSpPr>
            <p:cNvPr id="307" name=""/>
            <p:cNvGrpSpPr/>
            <p:nvPr/>
          </p:nvGrpSpPr>
          <p:grpSpPr>
            <a:xfrm>
              <a:off x="5790960" y="2971800"/>
              <a:ext cx="3048840" cy="3886200"/>
              <a:chOff x="5790960" y="2971800"/>
              <a:chExt cx="3048840" cy="3886200"/>
            </a:xfrm>
          </p:grpSpPr>
          <p:grpSp>
            <p:nvGrpSpPr>
              <p:cNvPr id="308" name=""/>
              <p:cNvGrpSpPr/>
              <p:nvPr/>
            </p:nvGrpSpPr>
            <p:grpSpPr>
              <a:xfrm>
                <a:off x="5790960" y="2971800"/>
                <a:ext cx="1905480" cy="3505680"/>
                <a:chOff x="5790960" y="2971800"/>
                <a:chExt cx="1905480" cy="3505680"/>
              </a:xfrm>
            </p:grpSpPr>
            <p:grpSp>
              <p:nvGrpSpPr>
                <p:cNvPr id="309" name=""/>
                <p:cNvGrpSpPr/>
                <p:nvPr/>
              </p:nvGrpSpPr>
              <p:grpSpPr>
                <a:xfrm>
                  <a:off x="5790960" y="2971800"/>
                  <a:ext cx="1295640" cy="1905120"/>
                  <a:chOff x="5790960" y="2971800"/>
                  <a:chExt cx="1295640" cy="1905120"/>
                </a:xfrm>
              </p:grpSpPr>
              <p:sp>
                <p:nvSpPr>
                  <p:cNvPr id="310" name=""/>
                  <p:cNvSpPr/>
                  <p:nvPr/>
                </p:nvSpPr>
                <p:spPr>
                  <a:xfrm>
                    <a:off x="5791320" y="2971800"/>
                    <a:ext cx="1295280" cy="1905120"/>
                  </a:xfrm>
                  <a:prstGeom prst="rect">
                    <a:avLst/>
                  </a:prstGeom>
                  <a:noFill/>
                  <a:ln cap="rnd" w="12600">
                    <a:solidFill>
                      <a:srgbClr val="ffff66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1" name=""/>
                  <p:cNvSpPr/>
                  <p:nvPr/>
                </p:nvSpPr>
                <p:spPr>
                  <a:xfrm>
                    <a:off x="6097680" y="321156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9" name=""/>
                  <p:cNvSpPr/>
                  <p:nvPr/>
                </p:nvSpPr>
                <p:spPr>
                  <a:xfrm>
                    <a:off x="6095880" y="342900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3" name=""/>
                  <p:cNvSpPr/>
                  <p:nvPr/>
                </p:nvSpPr>
                <p:spPr>
                  <a:xfrm>
                    <a:off x="6097680" y="366876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2" name=""/>
                  <p:cNvSpPr/>
                  <p:nvPr/>
                </p:nvSpPr>
                <p:spPr>
                  <a:xfrm>
                    <a:off x="6095880" y="388620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1" name=""/>
                  <p:cNvSpPr/>
                  <p:nvPr/>
                </p:nvSpPr>
                <p:spPr>
                  <a:xfrm>
                    <a:off x="6097680" y="412596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3" name=""/>
                  <p:cNvSpPr/>
                  <p:nvPr/>
                </p:nvSpPr>
                <p:spPr>
                  <a:xfrm>
                    <a:off x="5790960" y="2971800"/>
                    <a:ext cx="104040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66"/>
                        </a:solidFill>
                        <a:latin typeface="Arial"/>
                      </a:rPr>
                      <a:t>DBI::_::db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4" name=""/>
                  <p:cNvSpPr/>
                  <p:nvPr/>
                </p:nvSpPr>
                <p:spPr>
                  <a:xfrm>
                    <a:off x="6172200" y="4572000"/>
                    <a:ext cx="609480" cy="0"/>
                  </a:xfrm>
                  <a:prstGeom prst="line">
                    <a:avLst/>
                  </a:prstGeom>
                  <a:ln cap="rnd" w="12600">
                    <a:solidFill>
                      <a:srgbClr val="ffffff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cxnSp>
              <p:nvCxnSpPr>
                <p:cNvPr id="315" name=""/>
                <p:cNvCxnSpPr>
                  <a:endCxn id="316" idx="1"/>
                </p:cNvCxnSpPr>
                <p:nvPr/>
              </p:nvCxnSpPr>
              <p:spPr>
                <a:xfrm>
                  <a:off x="6781680" y="4572000"/>
                  <a:ext cx="915120" cy="1905840"/>
                </a:xfrm>
                <a:prstGeom prst="straightConnector1">
                  <a:avLst/>
                </a:prstGeom>
                <a:ln w="12600">
                  <a:solidFill>
                    <a:srgbClr val="ffffff"/>
                  </a:solidFill>
                  <a:prstDash val="sysDot"/>
                  <a:miter/>
                </a:ln>
              </p:spPr>
            </p:cxnSp>
          </p:grpSp>
          <p:grpSp>
            <p:nvGrpSpPr>
              <p:cNvPr id="317" name=""/>
              <p:cNvGrpSpPr/>
              <p:nvPr/>
            </p:nvGrpSpPr>
            <p:grpSpPr>
              <a:xfrm>
                <a:off x="7275240" y="4952880"/>
                <a:ext cx="1564560" cy="1905120"/>
                <a:chOff x="7275240" y="4952880"/>
                <a:chExt cx="1564560" cy="1905120"/>
              </a:xfrm>
            </p:grpSpPr>
            <p:sp>
              <p:nvSpPr>
                <p:cNvPr id="318" name=""/>
                <p:cNvSpPr/>
                <p:nvPr/>
              </p:nvSpPr>
              <p:spPr>
                <a:xfrm>
                  <a:off x="7315200" y="4952880"/>
                  <a:ext cx="1447920" cy="1905120"/>
                </a:xfrm>
                <a:prstGeom prst="rect">
                  <a:avLst/>
                </a:prstGeom>
                <a:noFill/>
                <a:ln cap="rnd" w="12600">
                  <a:solidFill>
                    <a:srgbClr val="ffff66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7696080" y="5867280"/>
                  <a:ext cx="775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method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7696080" y="6324480"/>
                  <a:ext cx="775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method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7275240" y="4952880"/>
                  <a:ext cx="1564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66"/>
                      </a:solidFill>
                      <a:latin typeface="Arial"/>
                    </a:rPr>
                    <a:t>DBI::_::common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7315200" y="6858000"/>
                  <a:ext cx="1447920" cy="0"/>
                </a:xfrm>
                <a:prstGeom prst="line">
                  <a:avLst/>
                </a:prstGeom>
                <a:ln w="19080">
                  <a:solidFill>
                    <a:srgbClr val="003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21" name=""/>
            <p:cNvGrpSpPr/>
            <p:nvPr/>
          </p:nvGrpSpPr>
          <p:grpSpPr>
            <a:xfrm>
              <a:off x="3277080" y="1676520"/>
              <a:ext cx="735480" cy="307080"/>
              <a:chOff x="3277080" y="1676520"/>
              <a:chExt cx="735480" cy="307080"/>
            </a:xfrm>
          </p:grpSpPr>
          <p:sp>
            <p:nvSpPr>
              <p:cNvPr id="322" name=""/>
              <p:cNvSpPr/>
              <p:nvPr/>
            </p:nvSpPr>
            <p:spPr>
              <a:xfrm>
                <a:off x="3277080" y="1676520"/>
                <a:ext cx="735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inn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flipH="1">
                <a:off x="3352680" y="1981080"/>
                <a:ext cx="60948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head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natomy of a DBI Hand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80880" y="2895480"/>
            <a:ext cx="685800" cy="5241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81600" y="2895480"/>
            <a:ext cx="744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andl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f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7" name=""/>
          <p:cNvGrpSpPr/>
          <p:nvPr/>
        </p:nvGrpSpPr>
        <p:grpSpPr>
          <a:xfrm>
            <a:off x="3200400" y="3419280"/>
            <a:ext cx="685800" cy="686160"/>
            <a:chOff x="3200400" y="3419280"/>
            <a:chExt cx="685800" cy="686160"/>
          </a:xfrm>
        </p:grpSpPr>
        <p:sp>
          <p:nvSpPr>
            <p:cNvPr id="328" name=""/>
            <p:cNvSpPr/>
            <p:nvPr/>
          </p:nvSpPr>
          <p:spPr>
            <a:xfrm>
              <a:off x="3200400" y="3581280"/>
              <a:ext cx="685800" cy="52416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329" name=""/>
            <p:cNvCxnSpPr>
              <a:stCxn id="330" idx="2"/>
              <a:endCxn id="328" idx="0"/>
            </p:cNvCxnSpPr>
            <p:nvPr/>
          </p:nvCxnSpPr>
          <p:spPr>
            <a:xfrm>
              <a:off x="3543120" y="3419280"/>
              <a:ext cx="1080" cy="16236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sm" type="triangle" w="sm"/>
            </a:ln>
          </p:spPr>
        </p:cxnSp>
        <p:sp>
          <p:nvSpPr>
            <p:cNvPr id="331" name=""/>
            <p:cNvSpPr/>
            <p:nvPr/>
          </p:nvSpPr>
          <p:spPr>
            <a:xfrm>
              <a:off x="3200760" y="3581280"/>
              <a:ext cx="656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gi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2" name=""/>
          <p:cNvGrpSpPr/>
          <p:nvPr/>
        </p:nvGrpSpPr>
        <p:grpSpPr>
          <a:xfrm>
            <a:off x="1905120" y="1752480"/>
            <a:ext cx="1802520" cy="4876920"/>
            <a:chOff x="1905120" y="1752480"/>
            <a:chExt cx="1802520" cy="4876920"/>
          </a:xfrm>
        </p:grpSpPr>
        <p:sp>
          <p:nvSpPr>
            <p:cNvPr id="333" name=""/>
            <p:cNvSpPr/>
            <p:nvPr/>
          </p:nvSpPr>
          <p:spPr>
            <a:xfrm>
              <a:off x="2819520" y="1752480"/>
              <a:ext cx="0" cy="487692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905120" y="1752480"/>
              <a:ext cx="74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‘’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uter’’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1980720" y="2057400"/>
              <a:ext cx="685800" cy="0"/>
            </a:xfrm>
            <a:prstGeom prst="line">
              <a:avLst/>
            </a:prstGeom>
            <a:ln w="19080">
              <a:solidFill>
                <a:srgbClr val="ffff66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972160" y="1752480"/>
              <a:ext cx="735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‘’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nner’’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971800" y="2057400"/>
              <a:ext cx="685800" cy="0"/>
            </a:xfrm>
            <a:prstGeom prst="line">
              <a:avLst/>
            </a:prstGeom>
            <a:ln w="19080">
              <a:solidFill>
                <a:srgbClr val="ffff66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8" name=""/>
          <p:cNvGrpSpPr/>
          <p:nvPr/>
        </p:nvGrpSpPr>
        <p:grpSpPr>
          <a:xfrm>
            <a:off x="4038480" y="2895120"/>
            <a:ext cx="2743200" cy="2286360"/>
            <a:chOff x="4038480" y="2895120"/>
            <a:chExt cx="2743200" cy="2286360"/>
          </a:xfrm>
        </p:grpSpPr>
        <p:sp>
          <p:nvSpPr>
            <p:cNvPr id="339" name=""/>
            <p:cNvSpPr/>
            <p:nvPr/>
          </p:nvSpPr>
          <p:spPr>
            <a:xfrm flipV="1">
              <a:off x="4038480" y="2895120"/>
              <a:ext cx="533520" cy="68580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038480" y="4114800"/>
              <a:ext cx="533520" cy="106668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72000" y="2895480"/>
              <a:ext cx="2209680" cy="2286000"/>
            </a:xfrm>
            <a:prstGeom prst="rect">
              <a:avLst/>
            </a:prstGeom>
            <a:noFill/>
            <a:ln cap="rnd" w="12600">
              <a:solidFill>
                <a:srgbClr val="ff9933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ruct imp_dbh_t  {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struct  dbih_dbc_t  com;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…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mplementers …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…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wn data ..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2" name=""/>
          <p:cNvGrpSpPr/>
          <p:nvPr/>
        </p:nvGrpSpPr>
        <p:grpSpPr>
          <a:xfrm>
            <a:off x="6781680" y="2895480"/>
            <a:ext cx="2209680" cy="2286000"/>
            <a:chOff x="6781680" y="2895480"/>
            <a:chExt cx="2209680" cy="2286000"/>
          </a:xfrm>
        </p:grpSpPr>
        <p:sp>
          <p:nvSpPr>
            <p:cNvPr id="343" name=""/>
            <p:cNvSpPr/>
            <p:nvPr/>
          </p:nvSpPr>
          <p:spPr>
            <a:xfrm>
              <a:off x="7176240" y="2895480"/>
              <a:ext cx="1815120" cy="228600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struct dbih_dbc_t  {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   … </a:t>
              </a: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DBI data ..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>
              <a:off x="6781680" y="2895480"/>
              <a:ext cx="394560" cy="53352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flipH="1" flipV="1">
              <a:off x="6781680" y="3505320"/>
              <a:ext cx="394560" cy="167616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6" name=""/>
          <p:cNvGrpSpPr/>
          <p:nvPr/>
        </p:nvGrpSpPr>
        <p:grpSpPr>
          <a:xfrm>
            <a:off x="1126800" y="2514600"/>
            <a:ext cx="2759400" cy="1590840"/>
            <a:chOff x="1126800" y="2514600"/>
            <a:chExt cx="2759400" cy="1590840"/>
          </a:xfrm>
        </p:grpSpPr>
        <p:grpSp>
          <p:nvGrpSpPr>
            <p:cNvPr id="347" name=""/>
            <p:cNvGrpSpPr/>
            <p:nvPr/>
          </p:nvGrpSpPr>
          <p:grpSpPr>
            <a:xfrm>
              <a:off x="1126800" y="2514600"/>
              <a:ext cx="2759400" cy="1590840"/>
              <a:chOff x="1126800" y="2514600"/>
              <a:chExt cx="2759400" cy="1590840"/>
            </a:xfrm>
          </p:grpSpPr>
          <p:sp>
            <p:nvSpPr>
              <p:cNvPr id="348" name=""/>
              <p:cNvSpPr/>
              <p:nvPr/>
            </p:nvSpPr>
            <p:spPr>
              <a:xfrm>
                <a:off x="1828800" y="2895480"/>
                <a:ext cx="68580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200400" y="2895480"/>
                <a:ext cx="685800" cy="524160"/>
              </a:xfrm>
              <a:prstGeom prst="rect">
                <a:avLst/>
              </a:prstGeom>
              <a:noFill/>
              <a:ln w="12600">
                <a:solidFill>
                  <a:srgbClr val="ff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349" name=""/>
              <p:cNvCxnSpPr>
                <a:stCxn id="326" idx="3"/>
                <a:endCxn id="348" idx="1"/>
              </p:cNvCxnSpPr>
              <p:nvPr/>
            </p:nvCxnSpPr>
            <p:spPr>
              <a:xfrm>
                <a:off x="1126800" y="3153960"/>
                <a:ext cx="702360" cy="39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</p:cxnSp>
          <p:sp>
            <p:nvSpPr>
              <p:cNvPr id="350" name=""/>
              <p:cNvSpPr/>
              <p:nvPr/>
            </p:nvSpPr>
            <p:spPr>
              <a:xfrm>
                <a:off x="1828800" y="3581280"/>
                <a:ext cx="685800" cy="524160"/>
              </a:xfrm>
              <a:prstGeom prst="rect">
                <a:avLst/>
              </a:prstGeom>
              <a:noFill/>
              <a:ln cap="rnd" w="12600">
                <a:solidFill>
                  <a:srgbClr val="ffffff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351" name=""/>
              <p:cNvCxnSpPr>
                <a:stCxn id="348" idx="2"/>
                <a:endCxn id="350" idx="0"/>
              </p:cNvCxnSpPr>
              <p:nvPr/>
            </p:nvCxnSpPr>
            <p:spPr>
              <a:xfrm>
                <a:off x="2171520" y="3419280"/>
                <a:ext cx="1080" cy="1623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</p:cxnSp>
          <p:cxnSp>
            <p:nvCxnSpPr>
              <p:cNvPr id="352" name=""/>
              <p:cNvCxnSpPr>
                <a:stCxn id="350" idx="3"/>
                <a:endCxn id="330" idx="1"/>
              </p:cNvCxnSpPr>
              <p:nvPr/>
            </p:nvCxnSpPr>
            <p:spPr>
              <a:xfrm flipV="1">
                <a:off x="2514240" y="3156840"/>
                <a:ext cx="686520" cy="686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</p:cxnSp>
          <p:sp>
            <p:nvSpPr>
              <p:cNvPr id="353" name=""/>
              <p:cNvSpPr/>
              <p:nvPr/>
            </p:nvSpPr>
            <p:spPr>
              <a:xfrm>
                <a:off x="1829520" y="2895480"/>
                <a:ext cx="5968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Tie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Hash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3201120" y="2971800"/>
                <a:ext cx="596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Hash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1829160" y="3581280"/>
                <a:ext cx="6562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Tie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agic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1752480" y="2514600"/>
                <a:ext cx="776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db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3124080" y="2514600"/>
                <a:ext cx="18432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58" name=""/>
            <p:cNvSpPr/>
            <p:nvPr/>
          </p:nvSpPr>
          <p:spPr>
            <a:xfrm>
              <a:off x="3108240" y="2525760"/>
              <a:ext cx="77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Method call walk-through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6108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ider a simple prepare call: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$dbh-&gt;prepare(..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db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s reference to a DBI::db object (regardless of drive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DBI::db::prepar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s an alias for DBI dispatch metho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atch calls driver’s prepare method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somethi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like thi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my $inner_hash_ref = …     # from tie magi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my $implementor_class = …  # from DBI magic 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$inner_hash_ref-&gt;$implementor_class::prepare(…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nce driver code gets inner hash it has fast access to the hash cont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Give me SPEED!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designe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or speed from day on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dispatch written in hand-crafted XS/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patch to XS driver methods optimiz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ched attributes returned by dispatch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aceholders give maximum server performan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nding columns and/or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fetchrow_arrayref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give maximum client-side fetch performan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overhead is generally insignifica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's the difference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while(@row = $sth-&gt;fetchrow_array) { 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e field:   31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n fields:  10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while($row = $sth-&gt;fetchrow_arrayref) { 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e field:   53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n fields:  4000 fetches per cpu secon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t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ings made on an old Sparc 10 using DBD::Orac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ings assume instant record fetch within driv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elds all one char.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@row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would be even slower for more/bigger field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Give me SAFETY!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recipe for safe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transactions (don't use AutoCommi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RaiseErr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eval { … } to catch errors and rollb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afety by examp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use DBI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use Text::Wra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dbh = DBI-&gt;connect(…, …, …,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AutoCommit =&gt; 0, RaiseError =&gt;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}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eval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sth = $dbh-&gt;prepare('insert into table values (?)'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foreach (@array_of_long_strings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text = wrap($_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sth-&gt;execute($test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@ ? $dbh-&gt;rollback : $dbh-&gt;commi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Give me</a:t>
            </a:r>
            <a:r>
              <a:rPr b="0" lang="en-US" sz="36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cccc"/>
                </a:solidFill>
                <a:latin typeface="Times New Roman"/>
              </a:rPr>
              <a:t>(a vague impression of )</a:t>
            </a:r>
            <a:r>
              <a:rPr b="0" lang="en-US" sz="36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AFETY!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fety on the cheap (without transaction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ush change information onto an arr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do in reverse order, in place of rollb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ider signals et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eels within wheels</a:t>
            </a:r>
            <a:br>
              <a:rPr sz="4400"/>
            </a:br>
            <a:r>
              <a:rPr b="0" lang="en-US" sz="3200" spc="-1" strike="noStrike">
                <a:solidFill>
                  <a:srgbClr val="00cccc"/>
                </a:solidFill>
                <a:latin typeface="Times New Roman"/>
              </a:rPr>
              <a:t>Watching the DBI in action</a:t>
            </a:r>
            <a:endParaRPr b="0" lang="en-US" sz="32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BI has detailed call tracing built-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trace be very helpful in understanding application behavior and for debugg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ows parameters and resul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ce information can be written to a fi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 used often enough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y Perl for Databases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deally suited to </a:t>
            </a:r>
            <a:r>
              <a:rPr b="0" i="1" lang="en-US" sz="3200" spc="-1" strike="noStrike">
                <a:solidFill>
                  <a:srgbClr val="ffff66"/>
                </a:solidFill>
                <a:latin typeface="Arial"/>
              </a:rPr>
              <a:t>data processing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parsin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cleansing / filtering / mergin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format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ta Mig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ta acquisition and repor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b Page creation (static and dynami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l lets you build sharper tools fas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Our program for today...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0" y="1980720"/>
            <a:ext cx="91440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#!/usr/bin/perl -w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2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3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use DBI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4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5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dbh = DBI-&gt;connect('user', 'passwd', { RaiseError =&gt; 1 }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6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7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upd = $dbh-&gt;prepare("UPDATE prices SET price=? WHERE prod=?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8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ins = $dbh-&gt;prepare("INSERT INTO prices (prod,price) VALUES(?,?)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9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rows = $upd-&gt;execute(42, "Widgets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0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ins-&gt;execute("Widgets", 42) if $rows =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1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2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dbh-&gt;disconnec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1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ce Level 1 shows results onl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&lt;-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connect= DBI::db=HASH(0xe0abc)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at DBI.pm line 356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('PrintError', 1)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('AutoCommit', 1)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('RaiseError', 1)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= DBI::st=HASH(0xe1238) at test.pl line 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= DBI::st=HASH(0xe1504) at test.pl line 8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'0E0' at test.pl line 9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1 at test.pl line 10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isconnect= 1 at test.pl line 11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2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ce Level 2 shows calls with parameters and mor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-&gt;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connect for DBD::ODBC::dr (DBI::dr=HASH(0x13dfec)~0xe14a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'demo' 'user' 'passwd' HASH(0xe0a10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connect=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DBI::db=HASH(0xe0ab0)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at DBI.pm line 356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STORE for DBD::ODBC::db (DBI::db=HASH(0xe0abc)~INNER 'PrintError'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prepare for DBD::ODBC::db (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DBI::db=HASH(0xe0ab0)~0xe0ab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'UPDATE prices SET price=? WHERE prod=?'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preparse scanned 2 distinct placeholder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= DBI::st=HASH(0xe1274) at test.pl line 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2 </a:t>
            </a:r>
            <a:r>
              <a:rPr b="0" lang="en-US" sz="2000" spc="-1" strike="noStrike">
                <a:solidFill>
                  <a:srgbClr val="00cccc"/>
                </a:solidFill>
                <a:latin typeface="Times New Roman"/>
              </a:rPr>
              <a:t>(continued)</a:t>
            </a:r>
            <a:endParaRPr b="0" lang="en-US" sz="2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execute for DBD::ODBC::st (DBI::st=HASH(0xe1274)~0xe110c 42 'Widgets'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1 &lt;== 42 (size 2/3/0, ptype 5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2 &lt;== 'Widgets' (size 7/8/0, ptype 4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st_execute (for sql f1499360 after)..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ql 1499360: num_fields=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kipped (no result cols) (sql f1499360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'0E0' at test.pl line 9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execute for DBD::ODBC::st (DBI::st=HASH(0xe10d0)~0x142e6c 'Widgets' 4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1 &lt;== 'Widgets' (size 7/8/0, ptype 4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2 &lt;== 42 (size 2/3/0, ptype 5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st_execute (for sql f1511752 after)..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ql 1511752: num_fields=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kipped (no result cols) (sql f151175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1 at test.pl line 10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2 </a:t>
            </a:r>
            <a:r>
              <a:rPr b="0" lang="en-US" sz="2000" spc="-1" strike="noStrike">
                <a:solidFill>
                  <a:srgbClr val="00cccc"/>
                </a:solidFill>
                <a:latin typeface="Times New Roman"/>
              </a:rPr>
              <a:t>(concluded)</a:t>
            </a:r>
            <a:endParaRPr b="0" lang="en-US" sz="2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isconnect for DBD::ODBC::db (DBI::db=HASH(0xe0ab0)~0xe0abc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isconnect= 1 at test.pl line 11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(outer handle DESTROY ignored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(outer handle DESTROY ignored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ESTROY for DBD::ODBC::st (DBI::st=HASH(0xe110c)~INNER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(outer handle DESTROY ignored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ESTROY for DBD::ODBC::st (DBI::st=HASH(0x142e6c)~INNER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ESTROY for DBD::ODBC::db (DBI::db=HASH(0xe0abc)~INNER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tate of the Nation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BI builds and runs on many sys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ix, Windows, VMS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BI has many available driv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24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DBC, Oracle, Informix, Ingres, mSQL, mysql, DB2, Adabas, Illustra, Solid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ybase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base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stgress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Quickbase, Empress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, Fulcrum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,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tera,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..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rging the ODBC/JDBC ‘inheritance’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ta types, meta-data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ecifying the unspecifi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cumenting the undocumented… at last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's New in the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tho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prepare_cached($statemen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dbh-&gt;table_info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 $dbh-&gt;tab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dbh-&gt;type_inf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ttribu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{TYPE}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Standards based type valu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{SCALE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{PRECISION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finally… Version 1.00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he Interactive DBI::Shell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rting the she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long wa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perl -MDBI::shell -e shell dsn user passw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perl -MDBI::shell -e she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hort wa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bish ..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active DSN sel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mand and Result History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uses ReadLin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utput Redirection for all comman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DBD::Proxy &amp; DBI::ProxyServer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tworking for Non-networked datab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D::Proxy driver forwards calls over network to remote DBI::ProxyServ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xy can be made transparent by setting DBI_AUTOPROXY environment vari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::ProxyServer doesn't work on Win32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ye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(work in progres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DBD::Proxy &amp; DBI::ProxyServer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380880" y="2057400"/>
            <a:ext cx="3048120" cy="2514600"/>
            <a:chOff x="380880" y="2057400"/>
            <a:chExt cx="3048120" cy="2514600"/>
          </a:xfrm>
        </p:grpSpPr>
        <p:sp>
          <p:nvSpPr>
            <p:cNvPr id="393" name=""/>
            <p:cNvSpPr/>
            <p:nvPr/>
          </p:nvSpPr>
          <p:spPr>
            <a:xfrm>
              <a:off x="380880" y="2057400"/>
              <a:ext cx="3048120" cy="1600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80880" y="380988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218600" y="2362320"/>
              <a:ext cx="105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220760" y="403848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97" name=""/>
          <p:cNvGrpSpPr/>
          <p:nvPr/>
        </p:nvGrpSpPr>
        <p:grpSpPr>
          <a:xfrm>
            <a:off x="380520" y="5486400"/>
            <a:ext cx="3072960" cy="762120"/>
            <a:chOff x="380520" y="5486400"/>
            <a:chExt cx="3072960" cy="762120"/>
          </a:xfrm>
        </p:grpSpPr>
        <p:sp>
          <p:nvSpPr>
            <p:cNvPr id="398" name=""/>
            <p:cNvSpPr/>
            <p:nvPr/>
          </p:nvSpPr>
          <p:spPr>
            <a:xfrm>
              <a:off x="380880" y="548640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219320" y="5715000"/>
              <a:ext cx="1211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PC::pClien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80880" y="5791320"/>
              <a:ext cx="83844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80520" y="5867280"/>
              <a:ext cx="84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orab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438280" y="5791320"/>
              <a:ext cx="99072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436120" y="5867280"/>
              <a:ext cx="1017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O::Socke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04" name=""/>
          <p:cNvGrpSpPr/>
          <p:nvPr/>
        </p:nvGrpSpPr>
        <p:grpSpPr>
          <a:xfrm>
            <a:off x="5715000" y="4724280"/>
            <a:ext cx="3048120" cy="762120"/>
            <a:chOff x="5715000" y="4724280"/>
            <a:chExt cx="3048120" cy="762120"/>
          </a:xfrm>
        </p:grpSpPr>
        <p:sp>
          <p:nvSpPr>
            <p:cNvPr id="405" name=""/>
            <p:cNvSpPr/>
            <p:nvPr/>
          </p:nvSpPr>
          <p:spPr>
            <a:xfrm>
              <a:off x="5715000" y="4724280"/>
              <a:ext cx="3048120" cy="76212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553440" y="4952880"/>
              <a:ext cx="962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D::Fo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07" name=""/>
          <p:cNvGrpSpPr/>
          <p:nvPr/>
        </p:nvGrpSpPr>
        <p:grpSpPr>
          <a:xfrm>
            <a:off x="5713560" y="2057400"/>
            <a:ext cx="3056040" cy="2514600"/>
            <a:chOff x="5713560" y="2057400"/>
            <a:chExt cx="3056040" cy="2514600"/>
          </a:xfrm>
        </p:grpSpPr>
        <p:sp>
          <p:nvSpPr>
            <p:cNvPr id="408" name=""/>
            <p:cNvSpPr/>
            <p:nvPr/>
          </p:nvSpPr>
          <p:spPr>
            <a:xfrm>
              <a:off x="5715000" y="380988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554520" y="403848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715000" y="2057400"/>
              <a:ext cx="3048120" cy="8380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550560" y="2286000"/>
              <a:ext cx="1561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ProxyServ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715000" y="289548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628680" y="3124080"/>
              <a:ext cx="128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PC::pServ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715000" y="3200400"/>
              <a:ext cx="91440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713560" y="3276720"/>
              <a:ext cx="96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O:Socke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7924680" y="3200400"/>
              <a:ext cx="83844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924320" y="3276720"/>
              <a:ext cx="84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orab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18" name=""/>
          <p:cNvGrpSpPr/>
          <p:nvPr/>
        </p:nvGrpSpPr>
        <p:grpSpPr>
          <a:xfrm>
            <a:off x="3450600" y="3429000"/>
            <a:ext cx="2264040" cy="2590200"/>
            <a:chOff x="3450600" y="3429000"/>
            <a:chExt cx="2264040" cy="2590200"/>
          </a:xfrm>
        </p:grpSpPr>
        <p:sp>
          <p:nvSpPr>
            <p:cNvPr id="419" name=""/>
            <p:cNvSpPr/>
            <p:nvPr/>
          </p:nvSpPr>
          <p:spPr>
            <a:xfrm>
              <a:off x="3962520" y="3505320"/>
              <a:ext cx="1371600" cy="1523880"/>
            </a:xfrm>
            <a:prstGeom prst="cloudCallout">
              <a:avLst>
                <a:gd name="adj1" fmla="val -25694"/>
                <a:gd name="adj2" fmla="val -31041"/>
              </a:avLst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20" name=""/>
            <p:cNvCxnSpPr>
              <a:stCxn id="415" idx="1"/>
              <a:endCxn id="419" idx="0"/>
            </p:cNvCxnSpPr>
            <p:nvPr/>
          </p:nvCxnSpPr>
          <p:spPr>
            <a:xfrm flipV="1" rot="10800000">
              <a:off x="5331600" y="3428640"/>
              <a:ext cx="383400" cy="838800"/>
            </a:xfrm>
            <a:prstGeom prst="curvedConnector5">
              <a:avLst>
                <a:gd name="adj1" fmla="val 49718"/>
                <a:gd name="adj2" fmla="val 49978"/>
                <a:gd name="adj3" fmla="val 49718"/>
              </a:avLst>
            </a:prstGeom>
            <a:ln w="12600">
              <a:solidFill>
                <a:srgbClr val="ffffff"/>
              </a:solidFill>
              <a:miter/>
              <a:headEnd len="sm" type="triangle" w="sm"/>
              <a:tailEnd len="sm" type="triangle" w="sm"/>
            </a:ln>
          </p:spPr>
        </p:cxnSp>
        <p:cxnSp>
          <p:nvCxnSpPr>
            <p:cNvPr id="421" name=""/>
            <p:cNvCxnSpPr>
              <a:stCxn id="419" idx="1"/>
              <a:endCxn id="403" idx="3"/>
            </p:cNvCxnSpPr>
            <p:nvPr/>
          </p:nvCxnSpPr>
          <p:spPr>
            <a:xfrm flipV="1" rot="10800000">
              <a:off x="3450600" y="4266000"/>
              <a:ext cx="516600" cy="1753560"/>
            </a:xfrm>
            <a:prstGeom prst="curvedConnector5">
              <a:avLst>
                <a:gd name="adj1" fmla="val 50418"/>
                <a:gd name="adj2" fmla="val 50000"/>
                <a:gd name="adj3" fmla="val 50418"/>
              </a:avLst>
            </a:prstGeom>
            <a:ln w="12600">
              <a:solidFill>
                <a:srgbClr val="ffffff"/>
              </a:solidFill>
              <a:miter/>
              <a:headEnd len="sm" type="triangle" w="sm"/>
              <a:tailEnd len="sm" type="triangle" w="sm"/>
            </a:ln>
          </p:spPr>
        </p:cxnSp>
        <p:sp>
          <p:nvSpPr>
            <p:cNvPr id="422" name=""/>
            <p:cNvSpPr/>
            <p:nvPr/>
          </p:nvSpPr>
          <p:spPr>
            <a:xfrm>
              <a:off x="4191120" y="4038480"/>
              <a:ext cx="834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23" name=""/>
          <p:cNvGrpSpPr/>
          <p:nvPr/>
        </p:nvGrpSpPr>
        <p:grpSpPr>
          <a:xfrm>
            <a:off x="380880" y="4724280"/>
            <a:ext cx="3048120" cy="762120"/>
            <a:chOff x="380880" y="4724280"/>
            <a:chExt cx="3048120" cy="762120"/>
          </a:xfrm>
        </p:grpSpPr>
        <p:sp>
          <p:nvSpPr>
            <p:cNvPr id="424" name=""/>
            <p:cNvSpPr/>
            <p:nvPr/>
          </p:nvSpPr>
          <p:spPr>
            <a:xfrm>
              <a:off x="1218960" y="495288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D::Prox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80880" y="4724280"/>
              <a:ext cx="3048120" cy="76212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 Is the Perl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tandard Database Interface for Per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perl module and specification that defines a consistent database interface, independent of the actual database being used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   Next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5788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QL for Non-SQL data sour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tworking for Non-Networked data sour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mplate driver for command line interfa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ta types, especially date/time/interv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n-blocking (method calls return at onc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lti-thread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nding In/Out Variab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nding Array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8" name=""/>
          <p:cNvGrpSpPr/>
          <p:nvPr/>
        </p:nvGrpSpPr>
        <p:grpSpPr>
          <a:xfrm>
            <a:off x="4343400" y="228600"/>
            <a:ext cx="533520" cy="1143000"/>
            <a:chOff x="4343400" y="228600"/>
            <a:chExt cx="533520" cy="1143000"/>
          </a:xfrm>
        </p:grpSpPr>
        <p:sp>
          <p:nvSpPr>
            <p:cNvPr id="429" name=""/>
            <p:cNvSpPr txBox="1"/>
            <p:nvPr/>
          </p:nvSpPr>
          <p:spPr>
            <a:xfrm>
              <a:off x="4343400" y="228600"/>
              <a:ext cx="533520" cy="482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5263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ffff66"/>
                    </a:solidFill>
                    <a:miter/>
                  </a:ln>
                  <a:solidFill>
                    <a:srgbClr val="ffff66"/>
                  </a:solidFill>
                  <a:latin typeface="Arial Black"/>
                </a:rPr>
                <a:t>was</a:t>
              </a:r>
              <a:endParaRPr b="0" lang="en-US" sz="2400" spc="1" strike="noStrike">
                <a:ln w="9360">
                  <a:solidFill>
                    <a:srgbClr val="ffff66"/>
                  </a:solidFill>
                  <a:miter/>
                </a:ln>
                <a:solidFill>
                  <a:srgbClr val="ffff66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419720" y="1130400"/>
              <a:ext cx="228600" cy="241200"/>
            </a:xfrm>
            <a:custGeom>
              <a:avLst/>
              <a:gdLst/>
              <a:ahLst/>
              <a:rect l="l" t="t" r="r" b="b"/>
              <a:pathLst>
                <a:path w="144" h="152">
                  <a:moveTo>
                    <a:pt x="0" y="152"/>
                  </a:moveTo>
                  <a:cubicBezTo>
                    <a:pt x="36" y="84"/>
                    <a:pt x="72" y="16"/>
                    <a:pt x="96" y="8"/>
                  </a:cubicBezTo>
                  <a:cubicBezTo>
                    <a:pt x="120" y="0"/>
                    <a:pt x="136" y="88"/>
                    <a:pt x="144" y="104"/>
                  </a:cubicBezTo>
                </a:path>
              </a:pathLst>
            </a:custGeom>
            <a:noFill/>
            <a:ln w="3816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o What's Next Now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5788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tend the Shell (batch mode, plug-ins et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iver catch-up to DBI version 1.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on test suite for all dri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ulti-threading (at least thread safety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nding In/Out Variables (for DBD::ODB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nding Arrays (for DBD::Oracl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n-blocking (method calls return at onc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fetch_scroll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next, previous, first, last et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 Parser (ODBC) for greater script porta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's new in DBD::Oracle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, but not all, of DBI 1.00 is support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ould catch up in the next release or s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w bundles Alan Burlison's explain too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explain-0_4beta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0" y="0"/>
            <a:ext cx="10972800" cy="857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cccc"/>
                </a:solidFill>
                <a:latin typeface="Times New Roman"/>
              </a:rPr>
              <a:t>The end.</a:t>
            </a:r>
            <a:br>
              <a:rPr sz="6000"/>
            </a:br>
            <a:endParaRPr b="0" lang="en-US" sz="6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66"/>
                </a:solidFill>
                <a:latin typeface="Times New Roman"/>
              </a:rPr>
              <a:t>Till next year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 drives the design of the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als of the DB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 simple to use for simple app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ve sufficient flexibility to accommodate unusual functionality and non-SQL databa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form to applicable standards (ODBC etc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able the creation of database-independent Perl scripts without being limited to the lowest functiona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 free with open source co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‘higher-level’ interface than ODBC/JDB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ere does the DBI fit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758960" y="3130560"/>
            <a:ext cx="5931000" cy="7491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DBI Modu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758960" y="1911240"/>
            <a:ext cx="5931000" cy="749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l 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950080" y="4425840"/>
            <a:ext cx="1739880" cy="749520"/>
          </a:xfrm>
          <a:prstGeom prst="rect">
            <a:avLst/>
          </a:prstGeom>
          <a:noFill/>
          <a:ln w="1260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Oth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892680" y="4425840"/>
            <a:ext cx="1739880" cy="749520"/>
          </a:xfrm>
          <a:prstGeom prst="rect">
            <a:avLst/>
          </a:prstGeom>
          <a:noFill/>
          <a:ln w="1260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Informi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758960" y="4425840"/>
            <a:ext cx="1739880" cy="749520"/>
          </a:xfrm>
          <a:prstGeom prst="rect">
            <a:avLst/>
          </a:prstGeom>
          <a:noFill/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Orac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724280" y="2666880"/>
            <a:ext cx="0" cy="4572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724280" y="396252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2819520" y="3962520"/>
            <a:ext cx="182880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800600" y="3962520"/>
            <a:ext cx="182880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2087640" y="5560920"/>
            <a:ext cx="852480" cy="993960"/>
            <a:chOff x="2087640" y="5560920"/>
            <a:chExt cx="852480" cy="993960"/>
          </a:xfrm>
        </p:grpSpPr>
        <p:grpSp>
          <p:nvGrpSpPr>
            <p:cNvPr id="113" name=""/>
            <p:cNvGrpSpPr/>
            <p:nvPr/>
          </p:nvGrpSpPr>
          <p:grpSpPr>
            <a:xfrm>
              <a:off x="2087640" y="5560920"/>
              <a:ext cx="852480" cy="993960"/>
              <a:chOff x="2087640" y="5560920"/>
              <a:chExt cx="852480" cy="993960"/>
            </a:xfrm>
          </p:grpSpPr>
          <p:sp>
            <p:nvSpPr>
              <p:cNvPr id="114" name=""/>
              <p:cNvSpPr/>
              <p:nvPr/>
            </p:nvSpPr>
            <p:spPr>
              <a:xfrm>
                <a:off x="2087640" y="628020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2087640" y="5705640"/>
                <a:ext cx="85248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087640" y="556092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7" name=""/>
            <p:cNvSpPr/>
            <p:nvPr/>
          </p:nvSpPr>
          <p:spPr>
            <a:xfrm>
              <a:off x="2095560" y="6415200"/>
              <a:ext cx="8398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097000" y="5703840"/>
              <a:ext cx="83664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2514600" y="51814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4294080" y="5560920"/>
            <a:ext cx="852480" cy="993960"/>
            <a:chOff x="4294080" y="5560920"/>
            <a:chExt cx="852480" cy="993960"/>
          </a:xfrm>
        </p:grpSpPr>
        <p:grpSp>
          <p:nvGrpSpPr>
            <p:cNvPr id="121" name=""/>
            <p:cNvGrpSpPr/>
            <p:nvPr/>
          </p:nvGrpSpPr>
          <p:grpSpPr>
            <a:xfrm>
              <a:off x="4294080" y="5560920"/>
              <a:ext cx="852480" cy="993960"/>
              <a:chOff x="4294080" y="5560920"/>
              <a:chExt cx="852480" cy="993960"/>
            </a:xfrm>
          </p:grpSpPr>
          <p:sp>
            <p:nvSpPr>
              <p:cNvPr id="122" name=""/>
              <p:cNvSpPr/>
              <p:nvPr/>
            </p:nvSpPr>
            <p:spPr>
              <a:xfrm>
                <a:off x="4294080" y="628020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4294080" y="5705640"/>
                <a:ext cx="85248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4294080" y="556092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5" name=""/>
            <p:cNvSpPr/>
            <p:nvPr/>
          </p:nvSpPr>
          <p:spPr>
            <a:xfrm>
              <a:off x="4302000" y="6415200"/>
              <a:ext cx="8398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303800" y="5703840"/>
              <a:ext cx="83664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6513480" y="5560920"/>
            <a:ext cx="852480" cy="993960"/>
            <a:chOff x="6513480" y="5560920"/>
            <a:chExt cx="852480" cy="993960"/>
          </a:xfrm>
        </p:grpSpPr>
        <p:grpSp>
          <p:nvGrpSpPr>
            <p:cNvPr id="128" name=""/>
            <p:cNvGrpSpPr/>
            <p:nvPr/>
          </p:nvGrpSpPr>
          <p:grpSpPr>
            <a:xfrm>
              <a:off x="6513480" y="5560920"/>
              <a:ext cx="852480" cy="993960"/>
              <a:chOff x="6513480" y="5560920"/>
              <a:chExt cx="852480" cy="993960"/>
            </a:xfrm>
          </p:grpSpPr>
          <p:sp>
            <p:nvSpPr>
              <p:cNvPr id="129" name=""/>
              <p:cNvSpPr/>
              <p:nvPr/>
            </p:nvSpPr>
            <p:spPr>
              <a:xfrm>
                <a:off x="6513480" y="628020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6513480" y="5705640"/>
                <a:ext cx="85248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6513480" y="556092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2" name=""/>
            <p:cNvSpPr/>
            <p:nvPr/>
          </p:nvSpPr>
          <p:spPr>
            <a:xfrm>
              <a:off x="6521400" y="6415200"/>
              <a:ext cx="8398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3200" y="5703840"/>
              <a:ext cx="8362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4724280" y="51814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934320" y="51814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859400" y="5908680"/>
            <a:ext cx="1287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racle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077720" y="5908680"/>
            <a:ext cx="1396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formix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315480" y="5908680"/>
            <a:ext cx="1207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Other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 Simple Examp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use DBI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dbh = 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DBI-&gt;connect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'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dbi:ODBC:PRIC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', 'user', 'password'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{ RaiseError =&gt; 1, AutoCommit =&gt; 0 }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upd = $dbh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prepar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'UPDATE prices SET price=? WHERE prod=?'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ins = $dbh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prepar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'INSERT INTO prices(prod,price) VALUES (?,?)'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while ($line = &lt;COST&gt;)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chop $line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($prod, $price) = split /,/, $line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rows = $upd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execut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$price, $prod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ins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execut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$prod,$price) if $rows =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db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commit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o why use the Perl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delivers what it promi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simple and quick to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fast, flexible and well prov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here, there and every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free, with sour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ivers available for many datab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ercial support is avail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has a large user base and a strong fu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omparing DBI and Alternatives</a:t>
            </a:r>
            <a:br>
              <a:rPr sz="4400"/>
            </a:br>
            <a:r>
              <a:rPr b="0" i="1" lang="en-US" sz="2400" spc="-1" strike="noStrike">
                <a:solidFill>
                  <a:srgbClr val="ffff66"/>
                </a:solidFill>
                <a:latin typeface="Times New Roman"/>
              </a:rPr>
              <a:t>(Attempting the Impossible!)</a:t>
            </a:r>
            <a:endParaRPr b="0" lang="en-US" sz="2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990720" y="1905120"/>
            <a:ext cx="7772400" cy="4190760"/>
            <a:chOff x="990720" y="1905120"/>
            <a:chExt cx="7772400" cy="4190760"/>
          </a:xfrm>
        </p:grpSpPr>
        <p:sp>
          <p:nvSpPr>
            <p:cNvPr id="145" name=""/>
            <p:cNvSpPr/>
            <p:nvPr/>
          </p:nvSpPr>
          <p:spPr>
            <a:xfrm>
              <a:off x="990720" y="1905120"/>
              <a:ext cx="0" cy="4179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990720" y="609588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42840" y="1805040"/>
            <a:ext cx="983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ower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755840" y="6148440"/>
            <a:ext cx="884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Effort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533760" y="2238480"/>
            <a:ext cx="2000160" cy="329544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mmand Lin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972040" y="1857240"/>
            <a:ext cx="2686320" cy="78120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ative AP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657840" y="1857240"/>
            <a:ext cx="1314720" cy="222912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DBC/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JDB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riv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095480" y="1857240"/>
            <a:ext cx="1238040" cy="291492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B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riv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286240" y="2162160"/>
            <a:ext cx="1543320" cy="222876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recompil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162160" y="1857240"/>
            <a:ext cx="1238400" cy="184788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in32::ODB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704960" y="3000240"/>
            <a:ext cx="2228760" cy="253368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C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oratcl, sybtcl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975240" y="6170760"/>
            <a:ext cx="602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lease note: This chart is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correc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only for some values of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correc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!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171440" y="1857240"/>
            <a:ext cx="2229120" cy="62892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ybase::DBli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Under the Hood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4726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defines and implements an interf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iver modules do much of the real wo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provides default methods, functions, tools etc  for dri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t limited to the lowest common denominator -  mechanism provided for driver specific extens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igned and built for spe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aluable detailed call tracing/debugging built-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02T22:11:14Z</dcterms:created>
  <dc:creator>Tim Bunce</dc:creator>
  <dc:description/>
  <dc:language>en-US</dc:language>
  <cp:lastModifiedBy>Staff</cp:lastModifiedBy>
  <cp:lastPrinted>1997-08-18T20:27:39Z</cp:lastPrinted>
  <dcterms:modified xsi:type="dcterms:W3CDTF">1998-12-15T18:15:22Z</dcterms:modified>
  <cp:revision>58</cp:revision>
  <dc:subject/>
  <dc:title>Integrating Perl and Databas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H:\timbo\dbi\Talks</vt:lpwstr>
  </property>
  <property fmtid="{D5CDD505-2E9C-101B-9397-08002B2CF9AE}" pid="14" name="ScreenSize">
    <vt:r8>1</vt:r8>
  </property>
  <property fmtid="{D5CDD505-2E9C-101B-9397-08002B2CF9AE}" pid="15" name="ScreenUsage">
    <vt:r8>1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